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4BF9C-A1CF-4317-B23E-AADD0603F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BA3C-A93E-43B7-B902-C85635DA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C2A44-C866-492B-B944-2E2E76CEA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1034B-4AE7-4079-AC57-D85344A45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8ABDD-A367-441C-B96B-C7FCE9C4D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0EF97-5257-450F-9591-EBFCFB2C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20A35-C308-49E8-B029-4B7E8494A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C097A-8081-4E1C-9EB8-90A4A1194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DE2B7-DD6F-447F-A015-A872C42BF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87DD8-D36F-4D72-A634-C232D1446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AACFE-D4ED-45B2-A1E4-9B5BBED6B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6F53-563D-426D-8BD8-ACD4EED22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5B47B-B7B8-456A-85C1-918D34A9E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1E266-2DAD-45DA-AB7A-4E0A727C8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2B64B-F92B-4348-82B7-D96F2DFAB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0D3F1-C5A6-4108-95C6-077FE52E8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C6793-CB87-4C1B-8E34-056B85D44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37DD0-56A6-42B1-821F-BE6DB8BA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9F57C-702B-46EC-84DD-47447D75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EA9E-9E65-49B2-9E55-650A2498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5786-8ED4-4392-BD8D-0F5C3086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E5A6-A50E-460B-A6BF-582EF3B8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DAB9-1A7F-4B2A-AE1F-1418DD1F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5389-7ADE-429F-AB4F-B60347060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F6C1-74EC-4306-8C55-C714A7D8F7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A338-9850-430D-9A53-5B8EFA900C5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0" y="30492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ENTERPRISE IT ARCHITECTURE AND STRATEGY</a:t>
            </a:r>
            <a:endParaRPr b="0" lang="en-US" sz="1600" spc="-1" strike="noStrike">
              <a:solidFill>
                <a:srgbClr val="ffffff"/>
              </a:solidFill>
              <a:latin typeface="Arial"/>
            </a:endParaRPr>
          </a:p>
        </p:txBody>
      </p:sp>
      <p:sp>
        <p:nvSpPr>
          <p:cNvPr id="162" name=""/>
          <p:cNvSpPr/>
          <p:nvPr/>
        </p:nvSpPr>
        <p:spPr>
          <a:xfrm>
            <a:off x="76320" y="812880"/>
            <a:ext cx="6887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 technology leaders are under pressure to control costs, introduce new services and align IT investments with corporate objectives.  But achieving improvements in IT performance is an increasingly complex challenge.  You must overcome a host of issues ranging from the building and integrating of solutions, to managing new technology trends, to controlling operations – all on a limited budget.  To further complicate maters, new regulatory mandates, such as Sarbanes-Oxley and other privacy regulations, pose a further strain on limited IT funds and resources.</a:t>
            </a:r>
            <a:endParaRPr b="0" lang="en-US" sz="1000" spc="-1" strike="noStrike">
              <a:solidFill>
                <a:srgbClr val="ffffff"/>
              </a:solidFill>
              <a:latin typeface="Arial"/>
            </a:endParaRPr>
          </a:p>
        </p:txBody>
      </p:sp>
      <p:sp>
        <p:nvSpPr>
          <p:cNvPr id="163" name=""/>
          <p:cNvSpPr/>
          <p:nvPr/>
        </p:nvSpPr>
        <p:spPr>
          <a:xfrm>
            <a:off x="0" y="1905120"/>
            <a:ext cx="7010280" cy="26712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Reduce Spending, Improve Performance</a:t>
            </a:r>
            <a:r>
              <a:rPr b="1" lang="en-US" sz="1000" spc="-1" strike="noStrike">
                <a:solidFill>
                  <a:srgbClr val="ffcc00"/>
                </a:solidFill>
                <a:latin typeface="Arial"/>
              </a:rPr>
              <a:t> </a:t>
            </a:r>
            <a:endParaRPr b="0" lang="en-US" sz="1000" spc="-1" strike="noStrike">
              <a:solidFill>
                <a:srgbClr val="ffffff"/>
              </a:solidFill>
              <a:latin typeface="Arial"/>
            </a:endParaRPr>
          </a:p>
        </p:txBody>
      </p:sp>
      <p:sp>
        <p:nvSpPr>
          <p:cNvPr id="164" name=""/>
          <p:cNvSpPr/>
          <p:nvPr/>
        </p:nvSpPr>
        <p:spPr>
          <a:xfrm>
            <a:off x="152280" y="2209680"/>
            <a:ext cx="68882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nterprise IT Architecture and Strategy solution provides a solid foundation that can help your vision of aligning business and information technology initiatives – helps your organization increase profitability by better leveraging people, processes and technolog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nterprise IT Architecture And Strategy Consulting:</a:t>
            </a:r>
            <a:r>
              <a:rPr b="0" lang="en-US" sz="1000" spc="-1" strike="noStrike">
                <a:solidFill>
                  <a:srgbClr val="ffffff"/>
                </a:solidFill>
                <a:latin typeface="Arial"/>
              </a:rPr>
              <a:t>  MTT Associates provides services to help clients determine how their technology environment operates today and develop a vision and blueprint for how it needs to operate in the future. Our solution helps you:</a:t>
            </a:r>
            <a:endParaRPr b="0" lang="en-US" sz="1000" spc="-1" strike="noStrike">
              <a:solidFill>
                <a:srgbClr val="ffffff"/>
              </a:solidFill>
              <a:latin typeface="Arial"/>
            </a:endParaRPr>
          </a:p>
        </p:txBody>
      </p:sp>
      <p:sp>
        <p:nvSpPr>
          <p:cNvPr id="165" name=""/>
          <p:cNvSpPr/>
          <p:nvPr/>
        </p:nvSpPr>
        <p:spPr>
          <a:xfrm>
            <a:off x="76320" y="3489480"/>
            <a:ext cx="4952880" cy="703080"/>
          </a:xfrm>
          <a:prstGeom prst="rect">
            <a:avLst/>
          </a:prstGeom>
          <a:noFill/>
          <a:ln w="0">
            <a:noFill/>
          </a:ln>
        </p:spPr>
        <p:style>
          <a:lnRef idx="0"/>
          <a:fillRef idx="0"/>
          <a:effectRef idx="0"/>
          <a:fontRef idx="minor"/>
        </p:style>
        <p:txBody>
          <a:bodyPr lIns="90000" rIns="90000" tIns="46800" bIns="46800" anchor="t">
            <a:spAutoFit/>
          </a:bodyPr>
          <a:p>
            <a:pPr lvl="1" marL="744480" indent="-2872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amine your architecture’s ability to support future business growth </a:t>
            </a:r>
            <a:endParaRPr b="0" lang="en-US" sz="1000" spc="-1" strike="noStrike">
              <a:solidFill>
                <a:srgbClr val="ffffff"/>
              </a:solidFill>
              <a:latin typeface="Arial"/>
            </a:endParaRPr>
          </a:p>
          <a:p>
            <a:pPr lvl="1" marL="744480" indent="-2872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y potential barriers to achieving your goals</a:t>
            </a:r>
            <a:endParaRPr b="0" lang="en-US" sz="1000" spc="-1" strike="noStrike">
              <a:solidFill>
                <a:srgbClr val="ffffff"/>
              </a:solidFill>
              <a:latin typeface="Arial"/>
            </a:endParaRPr>
          </a:p>
          <a:p>
            <a:pPr lvl="1" marL="744480" indent="-2872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ow how your environment can more effectively support the enterprise</a:t>
            </a:r>
            <a:endParaRPr b="0" lang="en-US" sz="1000" spc="-1" strike="noStrike">
              <a:solidFill>
                <a:srgbClr val="ffffff"/>
              </a:solidFill>
              <a:latin typeface="Arial"/>
            </a:endParaRPr>
          </a:p>
          <a:p>
            <a:pPr lvl="1" marL="744480" indent="-2872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 the financial justification for IT investment</a:t>
            </a:r>
            <a:endParaRPr b="0" lang="en-US" sz="1000" spc="-1" strike="noStrike">
              <a:solidFill>
                <a:srgbClr val="ffffff"/>
              </a:solidFill>
              <a:latin typeface="Arial"/>
            </a:endParaRPr>
          </a:p>
        </p:txBody>
      </p:sp>
      <p:sp>
        <p:nvSpPr>
          <p:cNvPr id="166" name=""/>
          <p:cNvSpPr/>
          <p:nvPr/>
        </p:nvSpPr>
        <p:spPr>
          <a:xfrm>
            <a:off x="380880" y="4673520"/>
            <a:ext cx="5730840" cy="1015920"/>
          </a:xfrm>
          <a:prstGeom prst="rect">
            <a:avLst/>
          </a:prstGeom>
          <a:noFill/>
          <a:ln w="0">
            <a:noFill/>
          </a:ln>
        </p:spPr>
        <p:style>
          <a:lnRef idx="0"/>
          <a:fillRef idx="0"/>
          <a:effectRef idx="0"/>
          <a:fontRef idx="minor"/>
        </p:style>
        <p:txBody>
          <a:bodyPr lIns="90360" rIns="90360" tIns="44280" bIns="44280" anchor="t">
            <a:noAutofit/>
          </a:bodyPr>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Architecture &amp; Business Assessmen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Architecture Strategic Planning &amp; Roadmap  </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Program Planning</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Executive-Alignment Strategy Planning </a:t>
            </a:r>
            <a:endParaRPr b="0" lang="en-US" sz="1200" spc="-1" strike="noStrike">
              <a:solidFill>
                <a:srgbClr val="ffffff"/>
              </a:solidFill>
              <a:latin typeface="Arial"/>
            </a:endParaRPr>
          </a:p>
        </p:txBody>
      </p:sp>
      <p:sp>
        <p:nvSpPr>
          <p:cNvPr id="167" name=""/>
          <p:cNvSpPr/>
          <p:nvPr/>
        </p:nvSpPr>
        <p:spPr>
          <a:xfrm>
            <a:off x="320760" y="4267080"/>
            <a:ext cx="551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68" name=""/>
          <p:cNvSpPr/>
          <p:nvPr/>
        </p:nvSpPr>
        <p:spPr>
          <a:xfrm>
            <a:off x="76320" y="6248520"/>
            <a:ext cx="16002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 achieve results, business and IT must work jointly to obtain complete alignment.  Then IT can enable the enterprise along multiple dimensions and provide bottom line results through efficient and effective operations as well as incremental increases in ROIC. </a:t>
            </a:r>
            <a:endParaRPr b="0" lang="en-US" sz="1000" spc="-1" strike="noStrike">
              <a:solidFill>
                <a:srgbClr val="ffffff"/>
              </a:solidFill>
              <a:latin typeface="Arial"/>
            </a:endParaRPr>
          </a:p>
        </p:txBody>
      </p:sp>
      <p:sp>
        <p:nvSpPr>
          <p:cNvPr id="169" name=""/>
          <p:cNvSpPr/>
          <p:nvPr/>
        </p:nvSpPr>
        <p:spPr>
          <a:xfrm>
            <a:off x="76320" y="5867280"/>
            <a:ext cx="419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The Value an Enterprise IT Architecture And Strategy Introduces</a:t>
            </a:r>
            <a:endParaRPr b="0" lang="en-US" sz="1000" spc="-1" strike="noStrike">
              <a:solidFill>
                <a:srgbClr val="ffffff"/>
              </a:solidFill>
              <a:latin typeface="Arial"/>
            </a:endParaRPr>
          </a:p>
        </p:txBody>
      </p:sp>
      <p:pic>
        <p:nvPicPr>
          <p:cNvPr id="170" name="" descr=""/>
          <p:cNvPicPr/>
          <p:nvPr/>
        </p:nvPicPr>
        <p:blipFill>
          <a:blip r:embed="rId1"/>
          <a:stretch/>
        </p:blipFill>
        <p:spPr>
          <a:xfrm>
            <a:off x="1676520" y="6172200"/>
            <a:ext cx="5484600" cy="28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122400" y="193680"/>
            <a:ext cx="6887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Improve IT Value and Efficienc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Enterprise IT Architecture and Strategy consulting services can help your organization achieve:</a:t>
            </a:r>
            <a:endParaRPr b="0" lang="en-US" sz="1000" spc="-1" strike="noStrike">
              <a:solidFill>
                <a:srgbClr val="ffffff"/>
              </a:solidFill>
              <a:latin typeface="Arial"/>
            </a:endParaRPr>
          </a:p>
        </p:txBody>
      </p:sp>
      <p:graphicFrame>
        <p:nvGraphicFramePr>
          <p:cNvPr id="172" name=""/>
          <p:cNvGraphicFramePr/>
          <p:nvPr/>
        </p:nvGraphicFramePr>
        <p:xfrm>
          <a:off x="152280" y="879480"/>
          <a:ext cx="7010640" cy="2244600"/>
        </p:xfrm>
        <a:graphic>
          <a:graphicData uri="http://schemas.openxmlformats.org/drawingml/2006/table">
            <a:tbl>
              <a:tblPr/>
              <a:tblGrid>
                <a:gridCol w="1447920"/>
                <a:gridCol w="1371600"/>
                <a:gridCol w="1447920"/>
                <a:gridCol w="1447560"/>
                <a:gridCol w="1295640"/>
              </a:tblGrid>
              <a:tr h="550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tter Alignment Of IT And Business </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solidFill>
                      <a:srgbClr val="ffcc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d Business Responsiveness </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solidFill>
                      <a:srgbClr val="ffcc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hanced IT Credibility </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solidFill>
                      <a:srgbClr val="ffcc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h Understanding Of Your IT Architecture </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solidFill>
                      <a:srgbClr val="ffcc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 IT Expenditures </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solidFill>
                      <a:srgbClr val="ffcc00"/>
                    </a:solidFill>
                  </a:tcPr>
                </a:tc>
              </a:tr>
              <a:tr h="1693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y integrating IT strategy with business strategy, this will increase the value that IT offers to the enterprise through greater innovation risk management and operational integration.</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th agile IT Architecture, applications can respond faster and</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effectively to changes in business process coming within the organization or from the marketplace.</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ise the credibility throughout the organization by consistently delivering</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time and on budget, meeting service level agreements, and contributing to financial performance.</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give you an effective tool for making the right</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cision about your architecture and for communicating to stakeholders and management the precise state of your IT environment.</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ffective reuse of IT assets helps realize sustainable cost reductions from your IT functions and makes resources available to deploy toward growth initiatives.</a:t>
                      </a:r>
                      <a:endParaRPr b="0" lang="en-US" sz="1000" spc="-1" strike="noStrike">
                        <a:solidFill>
                          <a:srgbClr val="fffff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r>
            </a:tbl>
          </a:graphicData>
        </a:graphic>
      </p:graphicFrame>
      <p:sp>
        <p:nvSpPr>
          <p:cNvPr id="173" name=""/>
          <p:cNvSpPr/>
          <p:nvPr/>
        </p:nvSpPr>
        <p:spPr>
          <a:xfrm>
            <a:off x="0" y="358128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graphicFrame>
        <p:nvGraphicFramePr>
          <p:cNvPr id="174" name=""/>
          <p:cNvGraphicFramePr/>
          <p:nvPr/>
        </p:nvGraphicFramePr>
        <p:xfrm>
          <a:off x="0" y="4030560"/>
          <a:ext cx="7315200" cy="1989360"/>
        </p:xfrm>
        <a:graphic>
          <a:graphicData uri="http://schemas.openxmlformats.org/drawingml/2006/table">
            <a:tbl>
              <a:tblPr/>
              <a:tblGrid>
                <a:gridCol w="1797120"/>
                <a:gridCol w="1725480"/>
                <a:gridCol w="1868400"/>
                <a:gridCol w="1924200"/>
              </a:tblGrid>
              <a:tr h="198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IT Architecture &amp; Business Assess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rforms a Current State assessment at a level of detail that quickly identifies major issues, hurdles, and/or opportunitie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IT Architecture Strategic Planning &amp; Roadmap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elop a Future State IT Strategy and Roadmap which will be aligned with overall business strategy, vision, objectives and the role IT plays within the organization as well as integrated with an overall Enterprise strategy.   </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IT Program Planning</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elop plan with business case that profiles key initiatives with proper emphasis given to current pain points, hurdles and/or opportunities for improvement.</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IT Executive-Alignment Strategy Planning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elop a strategy and plan that builds consensus, buy-in and ownership across executive constituent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75"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176"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4:11Z</dcterms:modified>
  <cp:revision>169</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