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7315200" cy="9144000"/>
  <p:notesSz cx="7008813"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F01A0-F41C-4144-96BA-AB53AB6C6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365040" y="213336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65040" y="528840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EE8CC-9CD2-4BCE-9652-2EDBC546A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6504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373932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0C717-8FA2-4DF7-AAD2-CE3DECF52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36504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259164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81788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6504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259164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481788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92F95-55AF-458D-95DA-A2A5B653D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67E723-D28F-4B02-9216-52821CB50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365040" y="2133360"/>
            <a:ext cx="6585120" cy="60404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2DE58-38D7-44FC-9CE4-B8D2CDAE1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365040" y="2133360"/>
            <a:ext cx="658512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62160-1354-4AC7-86AD-63093E291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36504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373932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AE40B-6C9A-4908-8651-323666CD4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139CA-511A-4675-8896-0131EB3C9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65040" y="369720"/>
            <a:ext cx="6585120" cy="70668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12A54-938D-41D1-AFBD-7E5B4790A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73932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36504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0DF39-DC48-4D70-9CA7-987F88F66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365040" y="2133360"/>
            <a:ext cx="6585120" cy="60404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E3099-041B-447B-9D3D-A0601346A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36504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373932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A3CE1-D36E-4DD0-8FE9-7AB210D0F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365040" y="528840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23315-E39C-4567-AB2F-7882C9E36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365040" y="213336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365040" y="528840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37950-4950-4E23-9AFA-D90617EAB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36504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373932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6F9642-F6F2-4C36-BE74-E82C659D46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36504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259164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81788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36504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259164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481788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2ACD46-C2E2-4682-9022-2B6B7E8118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365040" y="2133360"/>
            <a:ext cx="658512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D4F20-A213-4BA3-956D-F4C0E5231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36504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373932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D74AD-14E1-4EA3-890F-1CB79B107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AC7FA-4F34-41EE-977C-C9AE07251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5040" y="369720"/>
            <a:ext cx="6585120" cy="70668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7474A-ECBC-493E-9FF4-3C3863749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73932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6504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B7278-E444-4E15-B05F-E11E307A8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36504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373932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2D9B5-1FE5-46BE-9C18-912E8E04F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65040" y="528840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90977-11A6-4C92-ADBF-CBA661D33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7314840" cy="9141840"/>
            <a:chOff x="0" y="0"/>
            <a:chExt cx="7314840" cy="9141840"/>
          </a:xfrm>
        </p:grpSpPr>
        <p:sp>
          <p:nvSpPr>
            <p:cNvPr id="1" name=""/>
            <p:cNvSpPr/>
            <p:nvPr/>
          </p:nvSpPr>
          <p:spPr>
            <a:xfrm>
              <a:off x="0" y="25200"/>
              <a:ext cx="7312320" cy="692784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189000" y="0"/>
              <a:ext cx="7123320" cy="686448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7266960"/>
              <a:ext cx="5127840" cy="4039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5127840" y="7571520"/>
              <a:ext cx="2184480" cy="1371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7886880"/>
              <a:ext cx="6075360" cy="69588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6075360" y="7836120"/>
              <a:ext cx="1236960" cy="21348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596120" y="8075160"/>
              <a:ext cx="2716200" cy="41904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8405280"/>
              <a:ext cx="4596120" cy="73656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2662920" y="8557920"/>
              <a:ext cx="3192480" cy="5839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529600" y="8189280"/>
              <a:ext cx="1782720" cy="7999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6387840" y="6669720"/>
              <a:ext cx="924480" cy="50760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3145320"/>
              <a:ext cx="6387840" cy="353664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387840" y="6453720"/>
              <a:ext cx="924480" cy="67320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938600"/>
              <a:ext cx="6387840" cy="46292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2913120" y="0"/>
              <a:ext cx="4011840" cy="57675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6902280" y="5719320"/>
              <a:ext cx="410040" cy="63288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6955560" y="5477760"/>
              <a:ext cx="356760" cy="70920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116160" y="0"/>
              <a:ext cx="3961080" cy="566820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7144920" y="5363640"/>
              <a:ext cx="167400" cy="27936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952080" y="0"/>
              <a:ext cx="3192480" cy="5363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429440" y="0"/>
              <a:ext cx="2791440" cy="52491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7205760" y="5236920"/>
              <a:ext cx="106560" cy="20304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7115760" y="1798920"/>
              <a:ext cx="196560" cy="109224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6485760" y="0"/>
              <a:ext cx="727560" cy="220536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871680" y="0"/>
              <a:ext cx="433080" cy="16848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7236360" y="1382400"/>
              <a:ext cx="75960" cy="65808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2520" y="3388680"/>
              <a:ext cx="7305120" cy="39456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7307640" y="7372440"/>
              <a:ext cx="7200" cy="1296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9" name=""/>
            <p:cNvSpPr/>
            <p:nvPr/>
          </p:nvSpPr>
          <p:spPr>
            <a:xfrm>
              <a:off x="2520" y="4555080"/>
              <a:ext cx="7305120" cy="28299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2520" y="6724800"/>
              <a:ext cx="7305120" cy="87588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647000" y="0"/>
              <a:ext cx="5660640" cy="67248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4217760" y="0"/>
              <a:ext cx="3089880" cy="553284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5016240" y="0"/>
              <a:ext cx="2291040" cy="521568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5739120" y="0"/>
              <a:ext cx="1568160" cy="439020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5961240" y="0"/>
              <a:ext cx="1346400" cy="409788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325920" y="0"/>
              <a:ext cx="981720" cy="314748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3454560"/>
              <a:ext cx="7312320" cy="3932280"/>
              <a:chOff x="0" y="3454560"/>
              <a:chExt cx="7312320" cy="3932280"/>
            </a:xfrm>
          </p:grpSpPr>
          <p:sp>
            <p:nvSpPr>
              <p:cNvPr id="38" name=""/>
              <p:cNvSpPr/>
              <p:nvPr/>
            </p:nvSpPr>
            <p:spPr>
              <a:xfrm>
                <a:off x="0" y="3454560"/>
                <a:ext cx="4660560" cy="277884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4630320" y="5915880"/>
                <a:ext cx="2682000" cy="147096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365040" y="2133360"/>
            <a:ext cx="6585120" cy="60404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364680" y="8324640"/>
            <a:ext cx="1708200" cy="60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2498760" y="8331120"/>
            <a:ext cx="2317680" cy="6098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5241600" y="8324640"/>
            <a:ext cx="1708200" cy="60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EC8ED-724E-4317-8885-1D68D6BE629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7314840" cy="9141840"/>
            <a:chOff x="0" y="0"/>
            <a:chExt cx="7314840" cy="9141840"/>
          </a:xfrm>
        </p:grpSpPr>
        <p:sp>
          <p:nvSpPr>
            <p:cNvPr id="82" name=""/>
            <p:cNvSpPr/>
            <p:nvPr/>
          </p:nvSpPr>
          <p:spPr>
            <a:xfrm>
              <a:off x="0" y="25200"/>
              <a:ext cx="7312320" cy="692784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189000" y="0"/>
              <a:ext cx="7123320" cy="686448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7266960"/>
              <a:ext cx="5127840" cy="4039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127840" y="7571520"/>
              <a:ext cx="2184480" cy="1371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7886880"/>
              <a:ext cx="6075360" cy="69588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6075360" y="7836120"/>
              <a:ext cx="1236960" cy="21348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4596120" y="8075160"/>
              <a:ext cx="2716200" cy="41904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8405280"/>
              <a:ext cx="4596120" cy="73656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2662920" y="8557920"/>
              <a:ext cx="3192480" cy="5839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5529600" y="8189280"/>
              <a:ext cx="1782720" cy="7999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6387840" y="6669720"/>
              <a:ext cx="924480" cy="50760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3145320"/>
              <a:ext cx="6387840" cy="353664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6387840" y="6453720"/>
              <a:ext cx="924480" cy="67320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938600"/>
              <a:ext cx="6387840" cy="46292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2913120" y="0"/>
              <a:ext cx="4011840" cy="57675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6902280" y="5719320"/>
              <a:ext cx="410040" cy="63288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6955560" y="5477760"/>
              <a:ext cx="356760" cy="70920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116160" y="0"/>
              <a:ext cx="3961080" cy="566820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7144920" y="5363640"/>
              <a:ext cx="167400" cy="27936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952080" y="0"/>
              <a:ext cx="3192480" cy="5363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4429440" y="0"/>
              <a:ext cx="2791440" cy="52491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7205760" y="5236920"/>
              <a:ext cx="106560" cy="20304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7115760" y="1798920"/>
              <a:ext cx="196560" cy="109224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6485760" y="0"/>
              <a:ext cx="727560" cy="220536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871680" y="0"/>
              <a:ext cx="433080" cy="16848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236360" y="1382400"/>
              <a:ext cx="75960" cy="65808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2520" y="3388680"/>
              <a:ext cx="7305120" cy="39456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307640" y="7372440"/>
              <a:ext cx="7200" cy="1296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10" name=""/>
            <p:cNvSpPr/>
            <p:nvPr/>
          </p:nvSpPr>
          <p:spPr>
            <a:xfrm>
              <a:off x="2520" y="4555080"/>
              <a:ext cx="7305120" cy="28299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2520" y="6724800"/>
              <a:ext cx="7305120" cy="87588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1647000" y="0"/>
              <a:ext cx="5660640" cy="67248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217760" y="0"/>
              <a:ext cx="3089880" cy="553284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016240" y="0"/>
              <a:ext cx="2291040" cy="521568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739120" y="0"/>
              <a:ext cx="1568160" cy="439020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961240" y="0"/>
              <a:ext cx="1346400" cy="409788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325920" y="0"/>
              <a:ext cx="981720" cy="314748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3454560"/>
              <a:ext cx="7312320" cy="3932280"/>
              <a:chOff x="0" y="3454560"/>
              <a:chExt cx="7312320" cy="3932280"/>
            </a:xfrm>
          </p:grpSpPr>
          <p:sp>
            <p:nvSpPr>
              <p:cNvPr id="119" name=""/>
              <p:cNvSpPr/>
              <p:nvPr/>
            </p:nvSpPr>
            <p:spPr>
              <a:xfrm>
                <a:off x="0" y="3454560"/>
                <a:ext cx="4660560" cy="277884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4630320" y="5915880"/>
                <a:ext cx="2682000" cy="147096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365040" y="2133360"/>
            <a:ext cx="658512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364680" y="8324640"/>
            <a:ext cx="1708200" cy="60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2498760" y="8331120"/>
            <a:ext cx="2317680" cy="6098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5241600" y="8324640"/>
            <a:ext cx="1708200" cy="60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009C1-13BC-4B52-A5BF-E683F58B25A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p:nvPr/>
        </p:nvSpPr>
        <p:spPr>
          <a:xfrm>
            <a:off x="152280" y="7315200"/>
            <a:ext cx="7086600" cy="167652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2" name="" descr=""/>
          <p:cNvPicPr/>
          <p:nvPr/>
        </p:nvPicPr>
        <p:blipFill>
          <a:blip r:embed="rId1"/>
          <a:stretch/>
        </p:blipFill>
        <p:spPr>
          <a:xfrm>
            <a:off x="304920" y="4327560"/>
            <a:ext cx="6858000" cy="777960"/>
          </a:xfrm>
          <a:prstGeom prst="rect">
            <a:avLst/>
          </a:prstGeom>
          <a:ln w="0">
            <a:noFill/>
          </a:ln>
        </p:spPr>
      </p:pic>
      <p:sp>
        <p:nvSpPr>
          <p:cNvPr id="163" name=""/>
          <p:cNvSpPr/>
          <p:nvPr/>
        </p:nvSpPr>
        <p:spPr>
          <a:xfrm>
            <a:off x="0" y="196920"/>
            <a:ext cx="7315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ecff"/>
                </a:solidFill>
                <a:uFillTx/>
                <a:latin typeface="Arial"/>
              </a:rPr>
              <a:t>ENTERPRISE DATA QUALITY RISK MANAGEMENT (</a:t>
            </a:r>
            <a:r>
              <a:rPr b="1" i="1" lang="en-US" sz="1600" spc="-1" strike="noStrike" u="sng">
                <a:solidFill>
                  <a:srgbClr val="ccecff"/>
                </a:solidFill>
                <a:uFillTx/>
                <a:latin typeface="Arial"/>
              </a:rPr>
              <a:t>eDQRM</a:t>
            </a:r>
            <a:r>
              <a:rPr b="1" lang="en-US" sz="1600" spc="-1" strike="noStrike" u="sng">
                <a:solidFill>
                  <a:srgbClr val="ccecff"/>
                </a:solidFill>
                <a:uFillTx/>
                <a:latin typeface="Arial"/>
              </a:rPr>
              <a:t>)</a:t>
            </a:r>
            <a:endParaRPr b="0" lang="en-US" sz="1600" spc="-1" strike="noStrike">
              <a:solidFill>
                <a:srgbClr val="ffffff"/>
              </a:solidFill>
              <a:latin typeface="Arial"/>
            </a:endParaRPr>
          </a:p>
        </p:txBody>
      </p:sp>
      <p:sp>
        <p:nvSpPr>
          <p:cNvPr id="164" name=""/>
          <p:cNvSpPr/>
          <p:nvPr/>
        </p:nvSpPr>
        <p:spPr>
          <a:xfrm>
            <a:off x="76320" y="457200"/>
            <a:ext cx="68878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ffcc00"/>
                </a:solidFill>
                <a:latin typeface="Arial"/>
              </a:rPr>
              <a:t>Why eDQRM is needed?</a:t>
            </a:r>
            <a:r>
              <a:rPr b="1" lang="en-US" sz="1000" spc="-1" strike="noStrike">
                <a:solidFill>
                  <a:srgbClr val="ffffff"/>
                </a:solidFill>
                <a:latin typeface="Arial"/>
              </a:rPr>
              <a:t> </a:t>
            </a:r>
            <a:r>
              <a:rPr b="0" lang="en-US" sz="1000" spc="-1" strike="noStrike">
                <a:solidFill>
                  <a:srgbClr val="ffffff"/>
                </a:solidFill>
                <a:latin typeface="Arial"/>
              </a:rPr>
              <a:t>Many businesses are not confident that the data they currently capture and maintain is accurate. There must be complete confidence that the shared information will be captured and maintained accurately and securely. There is a recognized need to improve the quality of  information being accessed in ERP Systems, Decision Support Systems, Data Warehouses, and other data repositories.</a:t>
            </a:r>
            <a:endParaRPr b="0" lang="en-US" sz="1000" spc="-1" strike="noStrike">
              <a:solidFill>
                <a:srgbClr val="ffffff"/>
              </a:solidFill>
              <a:latin typeface="Arial"/>
            </a:endParaRPr>
          </a:p>
        </p:txBody>
      </p:sp>
      <p:sp>
        <p:nvSpPr>
          <p:cNvPr id="165" name=""/>
          <p:cNvSpPr/>
          <p:nvPr/>
        </p:nvSpPr>
        <p:spPr>
          <a:xfrm>
            <a:off x="76320" y="1568520"/>
            <a:ext cx="5486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Information Integration – The Challenge</a:t>
            </a:r>
            <a:endParaRPr b="0" lang="en-US" sz="1600" spc="-1" strike="noStrike">
              <a:solidFill>
                <a:srgbClr val="ffffff"/>
              </a:solidFill>
              <a:latin typeface="Arial"/>
            </a:endParaRPr>
          </a:p>
        </p:txBody>
      </p:sp>
      <p:pic>
        <p:nvPicPr>
          <p:cNvPr id="166" name="" descr=""/>
          <p:cNvPicPr/>
          <p:nvPr/>
        </p:nvPicPr>
        <p:blipFill>
          <a:blip r:embed="rId2"/>
          <a:stretch/>
        </p:blipFill>
        <p:spPr>
          <a:xfrm>
            <a:off x="1523880" y="1992240"/>
            <a:ext cx="4732560" cy="1436760"/>
          </a:xfrm>
          <a:prstGeom prst="rect">
            <a:avLst/>
          </a:prstGeom>
          <a:ln w="0">
            <a:noFill/>
          </a:ln>
        </p:spPr>
      </p:pic>
      <p:sp>
        <p:nvSpPr>
          <p:cNvPr id="167" name=""/>
          <p:cNvSpPr/>
          <p:nvPr/>
        </p:nvSpPr>
        <p:spPr>
          <a:xfrm>
            <a:off x="152280" y="3548160"/>
            <a:ext cx="7010640" cy="914400"/>
          </a:xfrm>
          <a:prstGeom prst="rect">
            <a:avLst/>
          </a:prstGeom>
          <a:gradFill rotWithShape="0">
            <a:gsLst>
              <a:gs pos="0">
                <a:srgbClr val="3366ff"/>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152280" y="3508560"/>
            <a:ext cx="6858000" cy="1107720"/>
          </a:xfrm>
          <a:prstGeom prst="rect">
            <a:avLst/>
          </a:prstGeom>
          <a:noFill/>
          <a:ln w="0">
            <a:noFill/>
          </a:ln>
        </p:spPr>
        <p:style>
          <a:lnRef idx="0"/>
          <a:fillRef idx="0"/>
          <a:effectRef idx="0"/>
          <a:fontRef idx="minor"/>
        </p:style>
        <p:txBody>
          <a:bodyPr lIns="237960" rIns="237960" tIns="57240" bIns="57240" anchor="ctr">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integration involves the fusion of legacy information silos, custom and COTS operational applications, and Intelligence environments.  This has introduced significant data integration challenges due to </a:t>
            </a:r>
            <a:endParaRPr b="0" lang="en-US" sz="1000" spc="-1" strike="noStrike">
              <a:solidFill>
                <a:srgbClr val="ffffff"/>
              </a:solidFill>
              <a:latin typeface="Arial"/>
            </a:endParaRPr>
          </a:p>
          <a:p>
            <a:pPr lvl="1" marL="28728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zational as well as technical autonomy;</a:t>
            </a:r>
            <a:endParaRPr b="0" lang="en-US" sz="1000" spc="-1" strike="noStrike">
              <a:solidFill>
                <a:srgbClr val="ffffff"/>
              </a:solidFill>
              <a:latin typeface="Arial"/>
            </a:endParaRPr>
          </a:p>
          <a:p>
            <a:pPr lvl="1" marL="28728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conforming and lacking standards; and</a:t>
            </a:r>
            <a:endParaRPr b="0" lang="en-US" sz="1000" spc="-1" strike="noStrike">
              <a:solidFill>
                <a:srgbClr val="ffffff"/>
              </a:solidFill>
              <a:latin typeface="Arial"/>
            </a:endParaRPr>
          </a:p>
          <a:p>
            <a:pPr lvl="1" marL="28728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omised data integrity and cleanlines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69" name=""/>
          <p:cNvSpPr/>
          <p:nvPr/>
        </p:nvSpPr>
        <p:spPr>
          <a:xfrm>
            <a:off x="3505320" y="5181480"/>
            <a:ext cx="32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Service Offerings</a:t>
            </a:r>
            <a:endParaRPr b="0" lang="en-US" sz="1600" spc="-1" strike="noStrike">
              <a:solidFill>
                <a:srgbClr val="ffffff"/>
              </a:solidFill>
              <a:latin typeface="Arial"/>
            </a:endParaRPr>
          </a:p>
        </p:txBody>
      </p:sp>
      <p:sp>
        <p:nvSpPr>
          <p:cNvPr id="170" name=""/>
          <p:cNvSpPr/>
          <p:nvPr/>
        </p:nvSpPr>
        <p:spPr>
          <a:xfrm>
            <a:off x="3657600" y="5562720"/>
            <a:ext cx="3429000" cy="990360"/>
          </a:xfrm>
          <a:prstGeom prst="rect">
            <a:avLst/>
          </a:prstGeom>
          <a:noFill/>
          <a:ln w="0">
            <a:noFill/>
          </a:ln>
        </p:spPr>
        <p:style>
          <a:lnRef idx="0"/>
          <a:fillRef idx="0"/>
          <a:effectRef idx="0"/>
          <a:fontRef idx="minor"/>
        </p:style>
        <p:txBody>
          <a:bodyPr lIns="90360" rIns="90360" tIns="44280" bIns="44280" anchor="t">
            <a:noAutofit/>
          </a:bodyPr>
          <a:p>
            <a:pPr marL="233280" indent="-233280">
              <a:lnSpc>
                <a:spcPct val="90000"/>
              </a:lnSpc>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QRM Roadmap</a:t>
            </a:r>
            <a:endParaRPr b="0" lang="en-US" sz="1200" spc="-1" strike="noStrike">
              <a:solidFill>
                <a:srgbClr val="ffffff"/>
              </a:solidFill>
              <a:latin typeface="Arial"/>
            </a:endParaRPr>
          </a:p>
          <a:p>
            <a:pPr marL="233280" indent="-233280">
              <a:lnSpc>
                <a:spcPct val="90000"/>
              </a:lnSpc>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QRM Strategy Planning and Development</a:t>
            </a:r>
            <a:endParaRPr b="0" lang="en-US" sz="1200" spc="-1" strike="noStrike">
              <a:solidFill>
                <a:srgbClr val="ffffff"/>
              </a:solidFill>
              <a:latin typeface="Arial"/>
            </a:endParaRPr>
          </a:p>
          <a:p>
            <a:pPr marL="233280" indent="-233280">
              <a:lnSpc>
                <a:spcPct val="90000"/>
              </a:lnSpc>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QRM Project Planning and Management </a:t>
            </a:r>
            <a:endParaRPr b="0" lang="en-US" sz="1200" spc="-1" strike="noStrike">
              <a:solidFill>
                <a:srgbClr val="ffffff"/>
              </a:solidFill>
              <a:latin typeface="Arial"/>
            </a:endParaRPr>
          </a:p>
          <a:p>
            <a:pPr marL="233280" indent="-233280">
              <a:lnSpc>
                <a:spcPct val="90000"/>
              </a:lnSpc>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QRM Assessment </a:t>
            </a:r>
            <a:endParaRPr b="0" lang="en-US" sz="1200" spc="-1" strike="noStrike">
              <a:solidFill>
                <a:srgbClr val="ffffff"/>
              </a:solidFill>
              <a:latin typeface="Arial"/>
            </a:endParaRPr>
          </a:p>
        </p:txBody>
      </p:sp>
      <p:sp>
        <p:nvSpPr>
          <p:cNvPr id="171" name=""/>
          <p:cNvSpPr/>
          <p:nvPr/>
        </p:nvSpPr>
        <p:spPr>
          <a:xfrm>
            <a:off x="0" y="5334120"/>
            <a:ext cx="3200400" cy="1180800"/>
          </a:xfrm>
          <a:prstGeom prst="rect">
            <a:avLst/>
          </a:prstGeom>
          <a:noFill/>
          <a:ln w="0">
            <a:noFill/>
          </a:ln>
        </p:spPr>
        <p:style>
          <a:lnRef idx="0"/>
          <a:fillRef idx="0"/>
          <a:effectRef idx="0"/>
          <a:fontRef idx="minor"/>
        </p:style>
        <p:txBody>
          <a:bodyPr lIns="237960" rIns="237960" tIns="57240" bIns="57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eDQRM Consulting Service:</a:t>
            </a:r>
            <a:r>
              <a:rPr b="0" lang="en-US" sz="1000" spc="-1" strike="noStrike">
                <a:solidFill>
                  <a:srgbClr val="ffcc00"/>
                </a:solidFill>
                <a:latin typeface="Arial"/>
              </a:rPr>
              <a:t> </a:t>
            </a:r>
            <a:r>
              <a:rPr b="0" lang="en-US" sz="1000" spc="-1" strike="noStrike">
                <a:solidFill>
                  <a:srgbClr val="ffffff"/>
                </a:solidFill>
                <a:latin typeface="Arial"/>
              </a:rPr>
              <a:t>MTT Associates will provide you the ability to design and implement an efficient technological solution. An effective data quality strategy can help you better understand your business environment, allowing you to maximize profitability and reduce costly operational inefficiencies.  </a:t>
            </a:r>
            <a:endParaRPr b="0" lang="en-US" sz="1000" spc="-1" strike="noStrike">
              <a:solidFill>
                <a:srgbClr val="ffffff"/>
              </a:solidFill>
              <a:latin typeface="Arial"/>
            </a:endParaRPr>
          </a:p>
        </p:txBody>
      </p:sp>
      <p:sp>
        <p:nvSpPr>
          <p:cNvPr id="172" name=""/>
          <p:cNvSpPr/>
          <p:nvPr/>
        </p:nvSpPr>
        <p:spPr>
          <a:xfrm>
            <a:off x="152280" y="7505640"/>
            <a:ext cx="3124440" cy="1180800"/>
          </a:xfrm>
          <a:prstGeom prst="rect">
            <a:avLst/>
          </a:prstGeom>
          <a:noFill/>
          <a:ln w="0">
            <a:noFill/>
          </a:ln>
        </p:spPr>
        <p:style>
          <a:lnRef idx="0"/>
          <a:fillRef idx="0"/>
          <a:effectRef idx="0"/>
          <a:fontRef idx="minor"/>
        </p:style>
        <p:txBody>
          <a:bodyPr lIns="237960" rIns="237960" tIns="57240" bIns="57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cc00"/>
                </a:solidFill>
                <a:latin typeface="Arial"/>
              </a:rPr>
              <a:t>The goal of MTT’s eDQRM services</a:t>
            </a:r>
            <a:r>
              <a:rPr b="0" lang="en-US" sz="1000" spc="-1" strike="noStrike">
                <a:solidFill>
                  <a:srgbClr val="ffffff"/>
                </a:solidFill>
                <a:latin typeface="Arial"/>
              </a:rPr>
              <a:t> is to provide the infrastructure and quality procedures and processes to transform raw data into consistent, accurate, and reliable corporate information. Its foundation consists of core building blocks for enterprise data quality management technology.</a:t>
            </a:r>
            <a:endParaRPr b="0" lang="en-US" sz="1000" spc="-1" strike="noStrike">
              <a:solidFill>
                <a:srgbClr val="ffffff"/>
              </a:solidFill>
              <a:latin typeface="Arial"/>
            </a:endParaRPr>
          </a:p>
        </p:txBody>
      </p:sp>
      <p:sp>
        <p:nvSpPr>
          <p:cNvPr id="173" name=""/>
          <p:cNvSpPr/>
          <p:nvPr/>
        </p:nvSpPr>
        <p:spPr>
          <a:xfrm>
            <a:off x="3276720" y="7391520"/>
            <a:ext cx="3886200" cy="1485360"/>
          </a:xfrm>
          <a:prstGeom prst="rect">
            <a:avLst/>
          </a:prstGeom>
          <a:blipFill rotWithShape="0">
            <a:blip r:embed="rId3"/>
            <a:srcRect/>
            <a:stretch/>
          </a:blipFill>
          <a:ln w="0">
            <a:noFill/>
          </a:ln>
        </p:spPr>
        <p:style>
          <a:lnRef idx="0"/>
          <a:fillRef idx="0"/>
          <a:effectRef idx="0"/>
          <a:fontRef idx="minor"/>
        </p:style>
        <p:txBody>
          <a:bodyPr lIns="237960" rIns="237960" tIns="57240" bIns="57240" anchor="ctr">
            <a:spAutoFit/>
          </a:bodyPr>
          <a:p>
            <a:pPr marL="233280" indent="-23328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Data Profiling</a:t>
            </a:r>
            <a:r>
              <a:rPr b="0" lang="en-US" sz="1000" spc="-1" strike="noStrike">
                <a:solidFill>
                  <a:srgbClr val="ffffff"/>
                </a:solidFill>
                <a:latin typeface="Arial"/>
              </a:rPr>
              <a:t> – Inspect data for errors, inconsistencies, redundancies and incomplete information </a:t>
            </a:r>
            <a:endParaRPr b="0" lang="en-US" sz="1000" spc="-1" strike="noStrike">
              <a:solidFill>
                <a:srgbClr val="ffffff"/>
              </a:solidFill>
              <a:latin typeface="Arial"/>
            </a:endParaRPr>
          </a:p>
          <a:p>
            <a:pPr marL="233280" indent="-23328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Data Cleansing</a:t>
            </a:r>
            <a:r>
              <a:rPr b="0" lang="en-US" sz="1000" spc="-1" strike="noStrike">
                <a:solidFill>
                  <a:srgbClr val="ffffff"/>
                </a:solidFill>
                <a:latin typeface="Arial"/>
              </a:rPr>
              <a:t> – Correct, standardize and verify data </a:t>
            </a:r>
            <a:endParaRPr b="0" lang="en-US" sz="1000" spc="-1" strike="noStrike">
              <a:solidFill>
                <a:srgbClr val="ffffff"/>
              </a:solidFill>
              <a:latin typeface="Arial"/>
            </a:endParaRPr>
          </a:p>
          <a:p>
            <a:pPr marL="233280" indent="-23328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Data Integration</a:t>
            </a:r>
            <a:r>
              <a:rPr b="0" lang="en-US" sz="1000" spc="-1" strike="noStrike">
                <a:solidFill>
                  <a:srgbClr val="ffffff"/>
                </a:solidFill>
                <a:latin typeface="Arial"/>
              </a:rPr>
              <a:t> – Match, merge or link data from a variety of disparate sources</a:t>
            </a:r>
            <a:endParaRPr b="0" lang="en-US" sz="1000" spc="-1" strike="noStrike">
              <a:solidFill>
                <a:srgbClr val="ffffff"/>
              </a:solidFill>
              <a:latin typeface="Arial"/>
            </a:endParaRPr>
          </a:p>
          <a:p>
            <a:pPr marL="233280" indent="-23328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Data Augmentation</a:t>
            </a:r>
            <a:r>
              <a:rPr b="0" lang="en-US" sz="1000" spc="-1" strike="noStrike">
                <a:solidFill>
                  <a:srgbClr val="ffffff"/>
                </a:solidFill>
                <a:latin typeface="Arial"/>
              </a:rPr>
              <a:t> – Enhance data using information from internal and external data sources </a:t>
            </a:r>
            <a:endParaRPr b="0" lang="en-US" sz="1000" spc="-1" strike="noStrike">
              <a:solidFill>
                <a:srgbClr val="ffffff"/>
              </a:solidFill>
              <a:latin typeface="Arial"/>
            </a:endParaRPr>
          </a:p>
          <a:p>
            <a:pPr marL="233280" indent="-23328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Data Monitoring</a:t>
            </a:r>
            <a:r>
              <a:rPr b="0" lang="en-US" sz="1000" spc="-1" strike="noStrike">
                <a:solidFill>
                  <a:srgbClr val="ffffff"/>
                </a:solidFill>
                <a:latin typeface="Arial"/>
              </a:rPr>
              <a:t> – Check and control data integrity over time</a:t>
            </a:r>
            <a:endParaRPr b="0" lang="en-US" sz="1000" spc="-1" strike="noStrike">
              <a:solidFill>
                <a:srgbClr val="ffffff"/>
              </a:solidFill>
              <a:latin typeface="Arial"/>
            </a:endParaRPr>
          </a:p>
        </p:txBody>
      </p:sp>
      <p:sp>
        <p:nvSpPr>
          <p:cNvPr id="174" name=""/>
          <p:cNvSpPr/>
          <p:nvPr/>
        </p:nvSpPr>
        <p:spPr>
          <a:xfrm>
            <a:off x="0" y="6667560"/>
            <a:ext cx="6858000" cy="571680"/>
          </a:xfrm>
          <a:prstGeom prst="rect">
            <a:avLst/>
          </a:prstGeom>
          <a:noFill/>
          <a:ln w="0">
            <a:noFill/>
          </a:ln>
        </p:spPr>
        <p:style>
          <a:lnRef idx="0"/>
          <a:fillRef idx="0"/>
          <a:effectRef idx="0"/>
          <a:fontRef idx="minor"/>
        </p:style>
        <p:txBody>
          <a:bodyPr lIns="237960" rIns="237960" tIns="57240" bIns="57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 provide highly qualified consultants to work on-site with your project teams.  MTT consultants can assist you in the proactive assessment of risk for such efforts as data conversion in support of ERP initiatives, Business Intelligence (BI), Enterprise Information Transitioning (eIT), or Customer Relationship Management (CRM).</a:t>
            </a:r>
            <a:endParaRPr b="0" lang="en-US" sz="1000" spc="-1" strike="noStrike">
              <a:solidFill>
                <a:srgbClr val="ffffff"/>
              </a:solidFill>
              <a:latin typeface="Arial"/>
            </a:endParaRPr>
          </a:p>
        </p:txBody>
      </p:sp>
      <p:sp>
        <p:nvSpPr>
          <p:cNvPr id="175" name=""/>
          <p:cNvSpPr/>
          <p:nvPr/>
        </p:nvSpPr>
        <p:spPr>
          <a:xfrm>
            <a:off x="3505320" y="5181480"/>
            <a:ext cx="3581280" cy="1447920"/>
          </a:xfrm>
          <a:prstGeom prst="rect">
            <a:avLst/>
          </a:prstGeom>
          <a:noFill/>
          <a:ln w="936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76" name=""/>
          <p:cNvGraphicFramePr/>
          <p:nvPr/>
        </p:nvGraphicFramePr>
        <p:xfrm>
          <a:off x="0" y="3124080"/>
          <a:ext cx="7315200" cy="2889360"/>
        </p:xfrm>
        <a:graphic>
          <a:graphicData uri="http://schemas.openxmlformats.org/drawingml/2006/table">
            <a:tbl>
              <a:tblPr/>
              <a:tblGrid>
                <a:gridCol w="3505320"/>
                <a:gridCol w="3809880"/>
              </a:tblGrid>
              <a:tr h="4111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UE eDQRM BRINGS FORTH </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0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NEFITS eDQRM OFFERS</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00"/>
                    </a:solidFill>
                  </a:tcPr>
                </a:tc>
              </a:tr>
              <a:tr h="430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vides proactive unveiling of information fusion risks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tablish a win discriminator that introduces early detection of Information Integration data risks</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404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utomated generation of key deliverables that are typically manually generated</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duced effort which drives reduced cost through automation of initial deliverables</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404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celerates key data tasks and deliverables</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duces overall project timeline that may be extended due to data flaws</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duced development costs</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404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ports development of cleaner data test beds</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duced testing costs</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404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vides on-going metrics for data quality which tends to have a direct impact on project durations</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n-going tracking of data issues from identification through resolution</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77" name=""/>
          <p:cNvSpPr/>
          <p:nvPr/>
        </p:nvSpPr>
        <p:spPr>
          <a:xfrm>
            <a:off x="0" y="120600"/>
            <a:ext cx="7315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Service Offerings</a:t>
            </a:r>
            <a:endParaRPr b="0" lang="en-US" sz="1600" spc="-1" strike="noStrike">
              <a:solidFill>
                <a:srgbClr val="ffffff"/>
              </a:solidFill>
              <a:latin typeface="Arial"/>
            </a:endParaRPr>
          </a:p>
        </p:txBody>
      </p:sp>
      <p:graphicFrame>
        <p:nvGraphicFramePr>
          <p:cNvPr id="178" name=""/>
          <p:cNvGraphicFramePr/>
          <p:nvPr/>
        </p:nvGraphicFramePr>
        <p:xfrm>
          <a:off x="0" y="457200"/>
          <a:ext cx="7315200" cy="2529000"/>
        </p:xfrm>
        <a:graphic>
          <a:graphicData uri="http://schemas.openxmlformats.org/drawingml/2006/table">
            <a:tbl>
              <a:tblPr/>
              <a:tblGrid>
                <a:gridCol w="1797120"/>
                <a:gridCol w="1725480"/>
                <a:gridCol w="1868400"/>
                <a:gridCol w="1924200"/>
              </a:tblGrid>
              <a:tr h="2536920">
                <a:tc>
                  <a:txBody>
                    <a:bodyPr lIns="90000" rIns="90000" tIns="46800" bIns="46800" anchor="t">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cc00"/>
                          </a:solidFill>
                          <a:uFillTx/>
                          <a:latin typeface="Arial"/>
                        </a:rPr>
                        <a:t>eDQRM Roadmap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nducts a comprehensive assessment of the maturity of your key information assets and provides a broad report of what you can do to improve your organizations information quality and effectiveness of key drivers.</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cc00"/>
                          </a:solidFill>
                          <a:uFillTx/>
                          <a:latin typeface="Arial"/>
                        </a:rPr>
                        <a:t>eDQRM Strategy Planning and Developmen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velops a consistent framework, tools, and methodology to use when planning a data quality initiative or planning the data quality focused tactical steps for the information integration aspects of initiatives. </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cc00"/>
                          </a:solidFill>
                          <a:uFillTx/>
                          <a:latin typeface="Arial"/>
                        </a:rPr>
                        <a:t>eDQRM Project Planning and Managemen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vides data quality focused assistance to customers when embarking on initiatives which will involve information integration aspects.  This will involve planning the tactical tasks involved and managing the execution of the data quality steps that take an initiative from discovery, through cleansing, monitoring, and trend analysis.</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cc00"/>
                          </a:solidFill>
                          <a:uFillTx/>
                          <a:latin typeface="Arial"/>
                        </a:rPr>
                        <a:t>eDQRM Assessmen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zes and measures data, uncovers information risks, exposes hidden problems, and quantifies the data risks in relation to dependent initiatives. </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79" name=""/>
          <p:cNvSpPr/>
          <p:nvPr/>
        </p:nvSpPr>
        <p:spPr>
          <a:xfrm>
            <a:off x="76320" y="6140520"/>
            <a:ext cx="6933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About Us</a:t>
            </a:r>
            <a:endParaRPr b="0" lang="en-US" sz="1600" spc="-1" strike="noStrike">
              <a:solidFill>
                <a:srgbClr val="ffffff"/>
              </a:solidFill>
              <a:latin typeface="Arial"/>
            </a:endParaRPr>
          </a:p>
        </p:txBody>
      </p:sp>
      <p:sp>
        <p:nvSpPr>
          <p:cNvPr id="180" name=""/>
          <p:cNvSpPr/>
          <p:nvPr/>
        </p:nvSpPr>
        <p:spPr>
          <a:xfrm>
            <a:off x="152280" y="6477120"/>
            <a:ext cx="6858000" cy="2361960"/>
          </a:xfrm>
          <a:prstGeom prst="rect">
            <a:avLst/>
          </a:prstGeom>
          <a:noFill/>
          <a:ln w="0">
            <a:noFill/>
          </a:ln>
        </p:spPr>
        <p:style>
          <a:lnRef idx="0"/>
          <a:fillRef idx="0"/>
          <a:effectRef idx="0"/>
          <a:fontRef idx="minor"/>
        </p:style>
        <p:txBody>
          <a:bodyPr lIns="0" rIns="0" tIns="41040" bIns="41040" anchor="t">
            <a:normAutofit fontScale="98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MTT Associates: A Leading Business Advisor and Systems Integrator</a:t>
            </a:r>
            <a:endParaRPr b="0" lang="en-US" sz="1000" spc="-1" strike="noStrike">
              <a:solidFill>
                <a:srgbClr val="ffffff"/>
              </a:solidFill>
              <a:latin typeface="Arial"/>
            </a:endParaRPr>
          </a:p>
          <a:p>
            <a:pPr lvl="1" marL="334440">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TT Associates is a veteran owned consulting firm specializing in business system solutions.  Our vision is to be the world’s most influential technology integration leader and trusted business advisor.  Achieving it will require the highest level of commitment, performance and professionalism.  The higher we set our sights and standards, the better we serve the people we care most about.</a:t>
            </a:r>
            <a:endParaRPr b="0" lang="en-US" sz="1000" spc="-1" strike="noStrike">
              <a:solidFill>
                <a:srgbClr val="ffffff"/>
              </a:solidFill>
              <a:latin typeface="Arial"/>
            </a:endParaRPr>
          </a:p>
          <a:p>
            <a:pPr lvl="1" marL="33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or more information on our services, please contact MTT Associates at (888) 766-2318.  </a:t>
            </a:r>
            <a:endParaRPr b="0" lang="en-US" sz="1000" spc="-1" strike="noStrike">
              <a:solidFill>
                <a:srgbClr val="ffffff"/>
              </a:solidFill>
              <a:latin typeface="Arial"/>
            </a:endParaRPr>
          </a:p>
          <a:p>
            <a:pPr lvl="1" marL="33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isit our web site: www.mtt-associates.com</a:t>
            </a:r>
            <a:endParaRPr b="0" lang="en-US" sz="1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Meeting the Needs of Our Clients</a:t>
            </a:r>
            <a:endParaRPr b="0" lang="en-US" sz="1000" spc="-1" strike="noStrike">
              <a:solidFill>
                <a:srgbClr val="ffffff"/>
              </a:solidFill>
              <a:latin typeface="Arial"/>
            </a:endParaRPr>
          </a:p>
          <a:p>
            <a:pPr lvl="1" marL="33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 the era of empowerment our first obligation is to our clients.  We care how they perform over the long term.  Their success is our success.  We treat each client’s business as or own.  At MTT Associates we strive to exceed the expectations of our clients, whom we define as partners.  We seek to help our customers develop enhancing strategies by providing business enablers through technology.  This will support more enhanced situational awareness and the creation of new competitive and cost-effective advantages to provide a gateway to tomorrow’s opportunities.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16:39:24Z</dcterms:created>
  <dc:creator>Frederick Smith, Jr.</dc:creator>
  <dc:description/>
  <dc:language>en-US</dc:language>
  <cp:lastModifiedBy>MIP</cp:lastModifiedBy>
  <dcterms:modified xsi:type="dcterms:W3CDTF">2007-12-05T03:23:54Z</dcterms:modified>
  <cp:revision>170</cp:revision>
  <dc:subject/>
  <dc:title>Advanced Technology, Database, Information Systems &amp; Secur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Sensitivity">
    <vt:lpwstr>Unrestricted</vt:lpwstr>
  </property>
  <property fmtid="{D5CDD505-2E9C-101B-9397-08002B2CF9AE}" pid="3" name="OCI Additional Info">
    <vt:lpwstr/>
  </property>
  <property fmtid="{D5CDD505-2E9C-101B-9397-08002B2CF9AE}" pid="4" name="OCI Restriction">
    <vt:bool>0</vt:bool>
  </property>
  <property fmtid="{D5CDD505-2E9C-101B-9397-08002B2CF9AE}" pid="5" name="SensitivityID">
    <vt:lpwstr>0</vt:lpwstr>
  </property>
  <property fmtid="{D5CDD505-2E9C-101B-9397-08002B2CF9AE}" pid="6" name="ThirdParty">
    <vt:lpwstr/>
  </property>
</Properties>
</file>