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7315200" cy="9144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BF84B-35E3-4401-86D6-6AD897C97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365040" y="213336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65040" y="528840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CBDD6-5D66-4C5E-BF17-682ED77AE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6504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373932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31F2A-B3EE-4F2E-A53E-C70E85A09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36504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259164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81788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6504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259164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481788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EA118-21A5-4B1D-9A60-94EB3A5AF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01F815-7AEF-42BC-A50F-B84DCBFFF2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365040" y="2133360"/>
            <a:ext cx="6585120" cy="60404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6DC2F8-BD37-4561-BB96-7C34592E5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365040" y="2133360"/>
            <a:ext cx="658512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3BFBC-1F5F-480B-AF1C-054D86BED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36504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373932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D7738-1B5A-4333-9A84-CD6FAB78D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97EFD-A5D9-4CD0-B2BD-942A0778E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365040" y="369720"/>
            <a:ext cx="6585120" cy="70668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680A4-B662-4A0F-B2D1-89AA87E4B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73932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36504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5E1A4-4F82-43E2-9334-7ED92DB8B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365040" y="2133360"/>
            <a:ext cx="6585120" cy="60404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E52B7-EDD6-4007-819C-EB4AE38AA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36504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373932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200E7-CBE9-477E-9CDC-6634110F1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365040" y="528840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26293-CA2F-44E9-AB7D-E17E3F258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365040" y="213336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365040" y="528840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1F816-E99B-41CB-9E24-B403C26D6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36504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373932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47B7EA-CE0F-4FA7-AE9F-520A887107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36504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259164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81788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36504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259164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481788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97E707-4AED-4198-B91C-F5F20F4130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365040" y="2133360"/>
            <a:ext cx="658512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3EE04-8514-48B4-98F5-896B03367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36504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373932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AC720-E017-4DC7-813C-1041BD220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7CFB6-3B65-418B-A28E-1ACB04E32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5040" y="369720"/>
            <a:ext cx="6585120" cy="70668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03CC5-DFF7-4A81-A150-B59201933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73932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6504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C152F-D502-4791-A767-9A57E75D3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36504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373932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C90BA-E87C-4C39-9757-BDE2C9F98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65040" y="528840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9BF97-E561-462D-BF96-6C1AE0DA0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7314840" cy="9141840"/>
            <a:chOff x="0" y="0"/>
            <a:chExt cx="7314840" cy="9141840"/>
          </a:xfrm>
        </p:grpSpPr>
        <p:sp>
          <p:nvSpPr>
            <p:cNvPr id="1" name=""/>
            <p:cNvSpPr/>
            <p:nvPr/>
          </p:nvSpPr>
          <p:spPr>
            <a:xfrm>
              <a:off x="0" y="25200"/>
              <a:ext cx="7312320" cy="692784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189000" y="0"/>
              <a:ext cx="7123320" cy="686448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7266960"/>
              <a:ext cx="5127840" cy="4039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5127840" y="7571520"/>
              <a:ext cx="2184480" cy="1371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7886880"/>
              <a:ext cx="6075360" cy="69588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6075360" y="7836120"/>
              <a:ext cx="1236960" cy="21348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596120" y="8075160"/>
              <a:ext cx="2716200" cy="41904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8405280"/>
              <a:ext cx="4596120" cy="73656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2662920" y="8557920"/>
              <a:ext cx="3192480" cy="5839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529600" y="8189280"/>
              <a:ext cx="1782720" cy="7999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6387840" y="6669720"/>
              <a:ext cx="924480" cy="50760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3145320"/>
              <a:ext cx="6387840" cy="353664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387840" y="6453720"/>
              <a:ext cx="924480" cy="67320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938600"/>
              <a:ext cx="6387840" cy="46292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2913120" y="0"/>
              <a:ext cx="4011840" cy="57675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6902280" y="5719320"/>
              <a:ext cx="410040" cy="63288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6955560" y="5477760"/>
              <a:ext cx="356760" cy="70920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116160" y="0"/>
              <a:ext cx="3961080" cy="566820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7144920" y="5363640"/>
              <a:ext cx="167400" cy="27936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952080" y="0"/>
              <a:ext cx="3192480" cy="5363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429440" y="0"/>
              <a:ext cx="2791440" cy="52491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7205760" y="5236920"/>
              <a:ext cx="106560" cy="20304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7115760" y="1798920"/>
              <a:ext cx="196560" cy="109224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6485760" y="0"/>
              <a:ext cx="727560" cy="220536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6871680" y="0"/>
              <a:ext cx="433080" cy="16848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7236360" y="1382400"/>
              <a:ext cx="75960" cy="65808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2520" y="3388680"/>
              <a:ext cx="7305120" cy="39456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7307640" y="7372440"/>
              <a:ext cx="7200" cy="1296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9" name=""/>
            <p:cNvSpPr/>
            <p:nvPr/>
          </p:nvSpPr>
          <p:spPr>
            <a:xfrm>
              <a:off x="2520" y="4555080"/>
              <a:ext cx="7305120" cy="28299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2520" y="6724800"/>
              <a:ext cx="7305120" cy="87588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647000" y="0"/>
              <a:ext cx="5660640" cy="67248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4217760" y="0"/>
              <a:ext cx="3089880" cy="553284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5016240" y="0"/>
              <a:ext cx="2291040" cy="521568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5739120" y="0"/>
              <a:ext cx="1568160" cy="439020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5961240" y="0"/>
              <a:ext cx="1346400" cy="409788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325920" y="0"/>
              <a:ext cx="981720" cy="314748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3454560"/>
              <a:ext cx="7312320" cy="3932280"/>
              <a:chOff x="0" y="3454560"/>
              <a:chExt cx="7312320" cy="3932280"/>
            </a:xfrm>
          </p:grpSpPr>
          <p:sp>
            <p:nvSpPr>
              <p:cNvPr id="38" name=""/>
              <p:cNvSpPr/>
              <p:nvPr/>
            </p:nvSpPr>
            <p:spPr>
              <a:xfrm>
                <a:off x="0" y="3454560"/>
                <a:ext cx="4660560" cy="277884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4630320" y="5915880"/>
                <a:ext cx="2682000" cy="147096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365040" y="2133360"/>
            <a:ext cx="6585120" cy="60404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364680" y="8324640"/>
            <a:ext cx="1708200" cy="60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2498760" y="8331120"/>
            <a:ext cx="2317680" cy="6098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5241600" y="8324640"/>
            <a:ext cx="1708200" cy="60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622CC-E713-41F1-AE74-6D4F4FF335A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7314840" cy="9141840"/>
            <a:chOff x="0" y="0"/>
            <a:chExt cx="7314840" cy="9141840"/>
          </a:xfrm>
        </p:grpSpPr>
        <p:sp>
          <p:nvSpPr>
            <p:cNvPr id="82" name=""/>
            <p:cNvSpPr/>
            <p:nvPr/>
          </p:nvSpPr>
          <p:spPr>
            <a:xfrm>
              <a:off x="0" y="25200"/>
              <a:ext cx="7312320" cy="692784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189000" y="0"/>
              <a:ext cx="7123320" cy="686448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7266960"/>
              <a:ext cx="5127840" cy="4039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127840" y="7571520"/>
              <a:ext cx="2184480" cy="1371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7886880"/>
              <a:ext cx="6075360" cy="69588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6075360" y="7836120"/>
              <a:ext cx="1236960" cy="21348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4596120" y="8075160"/>
              <a:ext cx="2716200" cy="41904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8405280"/>
              <a:ext cx="4596120" cy="73656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2662920" y="8557920"/>
              <a:ext cx="3192480" cy="5839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5529600" y="8189280"/>
              <a:ext cx="1782720" cy="7999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6387840" y="6669720"/>
              <a:ext cx="924480" cy="50760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3145320"/>
              <a:ext cx="6387840" cy="353664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6387840" y="6453720"/>
              <a:ext cx="924480" cy="67320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938600"/>
              <a:ext cx="6387840" cy="46292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2913120" y="0"/>
              <a:ext cx="4011840" cy="57675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6902280" y="5719320"/>
              <a:ext cx="410040" cy="63288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6955560" y="5477760"/>
              <a:ext cx="356760" cy="70920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116160" y="0"/>
              <a:ext cx="3961080" cy="566820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7144920" y="5363640"/>
              <a:ext cx="167400" cy="27936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952080" y="0"/>
              <a:ext cx="3192480" cy="5363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4429440" y="0"/>
              <a:ext cx="2791440" cy="52491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7205760" y="5236920"/>
              <a:ext cx="106560" cy="20304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7115760" y="1798920"/>
              <a:ext cx="196560" cy="109224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6485760" y="0"/>
              <a:ext cx="727560" cy="220536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871680" y="0"/>
              <a:ext cx="433080" cy="16848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7236360" y="1382400"/>
              <a:ext cx="75960" cy="65808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2520" y="3388680"/>
              <a:ext cx="7305120" cy="39456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7307640" y="7372440"/>
              <a:ext cx="7200" cy="1296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10" name=""/>
            <p:cNvSpPr/>
            <p:nvPr/>
          </p:nvSpPr>
          <p:spPr>
            <a:xfrm>
              <a:off x="2520" y="4555080"/>
              <a:ext cx="7305120" cy="28299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2520" y="6724800"/>
              <a:ext cx="7305120" cy="87588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1647000" y="0"/>
              <a:ext cx="5660640" cy="67248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217760" y="0"/>
              <a:ext cx="3089880" cy="553284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016240" y="0"/>
              <a:ext cx="2291040" cy="521568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739120" y="0"/>
              <a:ext cx="1568160" cy="439020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961240" y="0"/>
              <a:ext cx="1346400" cy="409788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6325920" y="0"/>
              <a:ext cx="981720" cy="314748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3454560"/>
              <a:ext cx="7312320" cy="3932280"/>
              <a:chOff x="0" y="3454560"/>
              <a:chExt cx="7312320" cy="3932280"/>
            </a:xfrm>
          </p:grpSpPr>
          <p:sp>
            <p:nvSpPr>
              <p:cNvPr id="119" name=""/>
              <p:cNvSpPr/>
              <p:nvPr/>
            </p:nvSpPr>
            <p:spPr>
              <a:xfrm>
                <a:off x="0" y="3454560"/>
                <a:ext cx="4660560" cy="277884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4630320" y="5915880"/>
                <a:ext cx="2682000" cy="147096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365040" y="2133360"/>
            <a:ext cx="658512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364680" y="8324640"/>
            <a:ext cx="1708200" cy="60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2498760" y="8331120"/>
            <a:ext cx="2317680" cy="6098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5241600" y="8324640"/>
            <a:ext cx="1708200" cy="60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FBC5E-D60B-4230-84BC-7FB012A79B5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
          <p:cNvSpPr/>
          <p:nvPr/>
        </p:nvSpPr>
        <p:spPr>
          <a:xfrm>
            <a:off x="0" y="304920"/>
            <a:ext cx="7315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ecff"/>
                </a:solidFill>
                <a:uFillTx/>
                <a:latin typeface="Arial"/>
              </a:rPr>
              <a:t>BUSINESS RESUMPTION PLANNING SERVICES (DISASTER RECOVERY)</a:t>
            </a:r>
            <a:endParaRPr b="0" lang="en-US" sz="1600" spc="-1" strike="noStrike">
              <a:solidFill>
                <a:srgbClr val="ffffff"/>
              </a:solidFill>
              <a:latin typeface="Arial"/>
            </a:endParaRPr>
          </a:p>
        </p:txBody>
      </p:sp>
      <p:sp>
        <p:nvSpPr>
          <p:cNvPr id="162" name=""/>
          <p:cNvSpPr/>
          <p:nvPr/>
        </p:nvSpPr>
        <p:spPr>
          <a:xfrm>
            <a:off x="76320" y="812880"/>
            <a:ext cx="68878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 today’s competitive environment, organizations must achieve maximum operational efficiency. To keep their institutions competitive, executives are implementing plans and procedures to assure that growth objectives are met and institutional assets are protected. The security of one such vital asset – business continuity – has become a top priority because it may well spell the difference between future success and failure</a:t>
            </a:r>
            <a:endParaRPr b="0" lang="en-US" sz="1000" spc="-1" strike="noStrike">
              <a:solidFill>
                <a:srgbClr val="ffffff"/>
              </a:solidFill>
              <a:latin typeface="Arial"/>
            </a:endParaRPr>
          </a:p>
        </p:txBody>
      </p:sp>
      <p:sp>
        <p:nvSpPr>
          <p:cNvPr id="163" name=""/>
          <p:cNvSpPr/>
          <p:nvPr/>
        </p:nvSpPr>
        <p:spPr>
          <a:xfrm>
            <a:off x="0" y="2041560"/>
            <a:ext cx="3276720" cy="267120"/>
          </a:xfrm>
          <a:prstGeom prst="rect">
            <a:avLst/>
          </a:prstGeom>
          <a:noFill/>
          <a:ln w="0">
            <a:noFill/>
          </a:ln>
        </p:spPr>
        <p:style>
          <a:lnRef idx="0"/>
          <a:fillRef idx="0"/>
          <a:effectRef idx="0"/>
          <a:fontRef idx="minor"/>
        </p:style>
        <p:txBody>
          <a:bodyPr lIns="237960" rIns="237960" tIns="57240" bIns="57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cc00"/>
                </a:solidFill>
                <a:latin typeface="Arial"/>
              </a:rPr>
              <a:t>The Objective is Business Survival</a:t>
            </a:r>
            <a:endParaRPr b="0" lang="en-US" sz="1000" spc="-1" strike="noStrike">
              <a:solidFill>
                <a:srgbClr val="ffffff"/>
              </a:solidFill>
              <a:latin typeface="Arial"/>
            </a:endParaRPr>
          </a:p>
        </p:txBody>
      </p:sp>
      <p:sp>
        <p:nvSpPr>
          <p:cNvPr id="164" name=""/>
          <p:cNvSpPr/>
          <p:nvPr/>
        </p:nvSpPr>
        <p:spPr>
          <a:xfrm>
            <a:off x="152280" y="2498760"/>
            <a:ext cx="2895840" cy="253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y definition, business continuity is the ability to survive, to compete and to meet business obligations under any circumstances.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very organization faces some level of risks. Risk reduction is of great value, but risks cannot be completely eliminated, only mitigated.</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isk from natural and unforeseen events could cause systems and other vital resources to be interrupted or damaged. Prolonged interruptions can lead to loss of revenue and threaten the survival of a corporation.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ltimately, business resumption planning is a key part of an information policy to these mitigate risks.</a:t>
            </a:r>
            <a:endParaRPr b="0" lang="en-US" sz="1000" spc="-1" strike="noStrike">
              <a:solidFill>
                <a:srgbClr val="ffffff"/>
              </a:solidFill>
              <a:latin typeface="Arial"/>
            </a:endParaRPr>
          </a:p>
        </p:txBody>
      </p:sp>
      <p:sp>
        <p:nvSpPr>
          <p:cNvPr id="165" name=""/>
          <p:cNvSpPr/>
          <p:nvPr/>
        </p:nvSpPr>
        <p:spPr>
          <a:xfrm>
            <a:off x="304920" y="6527880"/>
            <a:ext cx="3124080" cy="1015920"/>
          </a:xfrm>
          <a:prstGeom prst="rect">
            <a:avLst/>
          </a:prstGeom>
          <a:noFill/>
          <a:ln w="0">
            <a:noFill/>
          </a:ln>
        </p:spPr>
        <p:style>
          <a:lnRef idx="0"/>
          <a:fillRef idx="0"/>
          <a:effectRef idx="0"/>
          <a:fontRef idx="minor"/>
        </p:style>
        <p:txBody>
          <a:bodyPr lIns="90360" rIns="90360" tIns="44280" bIns="44280" anchor="t">
            <a:noAutofit/>
          </a:bodyPr>
          <a:p>
            <a:pPr marL="233280" indent="-233280">
              <a:lnSpc>
                <a:spcPct val="90000"/>
              </a:lnSpc>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Impact Analysis</a:t>
            </a:r>
            <a:endParaRPr b="0" lang="en-US" sz="1200" spc="-1" strike="noStrike">
              <a:solidFill>
                <a:srgbClr val="ffffff"/>
              </a:solidFill>
              <a:latin typeface="Arial"/>
            </a:endParaRPr>
          </a:p>
          <a:p>
            <a:pPr marL="233280" indent="-233280">
              <a:lnSpc>
                <a:spcPct val="90000"/>
              </a:lnSpc>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covery Plan Development</a:t>
            </a:r>
            <a:endParaRPr b="0" lang="en-US" sz="1200" spc="-1" strike="noStrike">
              <a:solidFill>
                <a:srgbClr val="ffffff"/>
              </a:solidFill>
              <a:latin typeface="Arial"/>
            </a:endParaRPr>
          </a:p>
          <a:p>
            <a:pPr marL="233280" indent="-233280">
              <a:lnSpc>
                <a:spcPct val="90000"/>
              </a:lnSpc>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ality Assurance</a:t>
            </a:r>
            <a:endParaRPr b="0" lang="en-US" sz="1200" spc="-1" strike="noStrike">
              <a:solidFill>
                <a:srgbClr val="ffffff"/>
              </a:solidFill>
              <a:latin typeface="Arial"/>
            </a:endParaRPr>
          </a:p>
          <a:p>
            <a:pPr marL="233280" indent="-233280">
              <a:lnSpc>
                <a:spcPct val="90000"/>
              </a:lnSpc>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isk Analysis</a:t>
            </a:r>
            <a:endParaRPr b="0" lang="en-US" sz="1200" spc="-1" strike="noStrike">
              <a:solidFill>
                <a:srgbClr val="ffffff"/>
              </a:solidFill>
              <a:latin typeface="Arial"/>
            </a:endParaRPr>
          </a:p>
          <a:p>
            <a:pPr marL="233280" indent="-233280">
              <a:lnSpc>
                <a:spcPct val="90000"/>
              </a:lnSpc>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aster Recovery Evaluation Report</a:t>
            </a:r>
            <a:endParaRPr b="0" lang="en-US" sz="1200" spc="-1" strike="noStrike">
              <a:solidFill>
                <a:srgbClr val="ffffff"/>
              </a:solidFill>
              <a:latin typeface="Arial"/>
            </a:endParaRPr>
          </a:p>
          <a:p>
            <a:pPr marL="233280" indent="-233280">
              <a:lnSpc>
                <a:spcPct val="90000"/>
              </a:lnSpc>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ternative Processing Site Studies</a:t>
            </a:r>
            <a:endParaRPr b="0" lang="en-US" sz="1200" spc="-1" strike="noStrike">
              <a:solidFill>
                <a:srgbClr val="ffffff"/>
              </a:solidFill>
              <a:latin typeface="Arial"/>
            </a:endParaRPr>
          </a:p>
          <a:p>
            <a:pPr marL="233280" indent="-233280">
              <a:lnSpc>
                <a:spcPct val="90000"/>
              </a:lnSpc>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plication Impact Analysis</a:t>
            </a:r>
            <a:endParaRPr b="0" lang="en-US" sz="1200" spc="-1" strike="noStrike">
              <a:solidFill>
                <a:srgbClr val="ffffff"/>
              </a:solidFill>
              <a:latin typeface="Arial"/>
            </a:endParaRPr>
          </a:p>
          <a:p>
            <a:pPr marL="233280" indent="-233280">
              <a:lnSpc>
                <a:spcPct val="90000"/>
              </a:lnSpc>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Protection Analysis</a:t>
            </a:r>
            <a:endParaRPr b="0" lang="en-US" sz="1200" spc="-1" strike="noStrike">
              <a:solidFill>
                <a:srgbClr val="ffffff"/>
              </a:solidFill>
              <a:latin typeface="Arial"/>
            </a:endParaRPr>
          </a:p>
          <a:p>
            <a:pPr marL="233280" indent="-233280">
              <a:lnSpc>
                <a:spcPct val="90000"/>
              </a:lnSpc>
              <a:spcAft>
                <a:spcPts val="37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ecutive Management Crisis Response Plan</a:t>
            </a:r>
            <a:endParaRPr b="0" lang="en-US" sz="1200" spc="-1" strike="noStrike">
              <a:solidFill>
                <a:srgbClr val="ffffff"/>
              </a:solidFill>
              <a:latin typeface="Arial"/>
            </a:endParaRPr>
          </a:p>
        </p:txBody>
      </p:sp>
      <p:sp>
        <p:nvSpPr>
          <p:cNvPr id="166" name=""/>
          <p:cNvSpPr/>
          <p:nvPr/>
        </p:nvSpPr>
        <p:spPr>
          <a:xfrm>
            <a:off x="244440" y="6121440"/>
            <a:ext cx="551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Service Offerings</a:t>
            </a:r>
            <a:endParaRPr b="0" lang="en-US" sz="1600" spc="-1" strike="noStrike">
              <a:solidFill>
                <a:srgbClr val="ffffff"/>
              </a:solidFill>
              <a:latin typeface="Arial"/>
            </a:endParaRPr>
          </a:p>
        </p:txBody>
      </p:sp>
      <p:sp>
        <p:nvSpPr>
          <p:cNvPr id="167" name=""/>
          <p:cNvSpPr/>
          <p:nvPr/>
        </p:nvSpPr>
        <p:spPr>
          <a:xfrm>
            <a:off x="228600" y="5181480"/>
            <a:ext cx="68882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Business Resumption Planning Consulting:</a:t>
            </a:r>
            <a:r>
              <a:rPr b="0" lang="en-US" sz="1000" spc="-1" strike="noStrike">
                <a:solidFill>
                  <a:srgbClr val="ffffff"/>
                </a:solidFill>
                <a:latin typeface="Arial"/>
              </a:rPr>
              <a:t>  The goals of MTT Associates is to provide services that assists clients in defining a Business Resumption Plan that enables their organization to sustain an interruption, and at the same time, satisfy customers, maintain revenues, minimize expenses, preserve market share.</a:t>
            </a:r>
            <a:endParaRPr b="0" lang="en-US" sz="1000" spc="-1" strike="noStrike">
              <a:solidFill>
                <a:srgbClr val="ffffff"/>
              </a:solidFill>
              <a:latin typeface="Arial"/>
            </a:endParaRPr>
          </a:p>
        </p:txBody>
      </p:sp>
      <p:pic>
        <p:nvPicPr>
          <p:cNvPr id="168" name="" descr=""/>
          <p:cNvPicPr/>
          <p:nvPr/>
        </p:nvPicPr>
        <p:blipFill>
          <a:blip r:embed="rId1"/>
          <a:stretch/>
        </p:blipFill>
        <p:spPr>
          <a:xfrm>
            <a:off x="3886200" y="2209680"/>
            <a:ext cx="2544840" cy="2711520"/>
          </a:xfrm>
          <a:prstGeom prst="rect">
            <a:avLst/>
          </a:prstGeom>
          <a:ln w="0">
            <a:noFill/>
          </a:ln>
        </p:spPr>
      </p:pic>
      <p:pic>
        <p:nvPicPr>
          <p:cNvPr id="169" name="" descr=""/>
          <p:cNvPicPr/>
          <p:nvPr/>
        </p:nvPicPr>
        <p:blipFill>
          <a:blip r:embed="rId2"/>
          <a:stretch/>
        </p:blipFill>
        <p:spPr>
          <a:xfrm>
            <a:off x="3886200" y="6576840"/>
            <a:ext cx="2590920" cy="14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
          <p:cNvSpPr/>
          <p:nvPr/>
        </p:nvSpPr>
        <p:spPr>
          <a:xfrm>
            <a:off x="0" y="152280"/>
            <a:ext cx="7315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Service Offerings</a:t>
            </a:r>
            <a:endParaRPr b="0" lang="en-US" sz="1600" spc="-1" strike="noStrike">
              <a:solidFill>
                <a:srgbClr val="ffffff"/>
              </a:solidFill>
              <a:latin typeface="Arial"/>
            </a:endParaRPr>
          </a:p>
        </p:txBody>
      </p:sp>
      <p:graphicFrame>
        <p:nvGraphicFramePr>
          <p:cNvPr id="171" name=""/>
          <p:cNvGraphicFramePr/>
          <p:nvPr/>
        </p:nvGraphicFramePr>
        <p:xfrm>
          <a:off x="0" y="601560"/>
          <a:ext cx="7315200" cy="1989360"/>
        </p:xfrm>
        <a:graphic>
          <a:graphicData uri="http://schemas.openxmlformats.org/drawingml/2006/table">
            <a:tbl>
              <a:tblPr/>
              <a:tblGrid>
                <a:gridCol w="1797120"/>
                <a:gridCol w="1725480"/>
                <a:gridCol w="1868400"/>
                <a:gridCol w="1924200"/>
              </a:tblGrid>
              <a:tr h="1989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cc00"/>
                          </a:solidFill>
                          <a:uFillTx/>
                          <a:latin typeface="Arial"/>
                        </a:rPr>
                        <a:t>Business Impact Analysi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volves the analysis of corporate risks, financial and operational exposures, recovery alternatives and the formation of a balanced business resumption strategy which provides the maximum protection at the least cost.</a:t>
                      </a: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cc00"/>
                          </a:solidFill>
                          <a:uFillTx/>
                          <a:latin typeface="Arial"/>
                        </a:rPr>
                        <a:t>Recovery Plan Develop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velopment of an action-oriented plan which identifies the roles, responsibilities and tasks necessary to recover the business.</a:t>
                      </a: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cc00"/>
                          </a:solidFill>
                          <a:uFillTx/>
                          <a:latin typeface="Arial"/>
                        </a:rPr>
                        <a:t>Quality Assuranc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nsures that the business continuity program in place is reviewed, re-tested, and updated on a scheduled basis. These actions will confirm the ongoing recoverability of the organization.</a:t>
                      </a: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cc00"/>
                          </a:solidFill>
                          <a:uFillTx/>
                          <a:latin typeface="Arial"/>
                        </a:rPr>
                        <a:t>Risk Analysi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ssesses the potential impact of various threats to your hardware, software, data, facilities and personnel.</a:t>
                      </a: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graphicFrame>
        <p:nvGraphicFramePr>
          <p:cNvPr id="172" name=""/>
          <p:cNvGraphicFramePr/>
          <p:nvPr/>
        </p:nvGraphicFramePr>
        <p:xfrm>
          <a:off x="0" y="2590920"/>
          <a:ext cx="7315200" cy="1989000"/>
        </p:xfrm>
        <a:graphic>
          <a:graphicData uri="http://schemas.openxmlformats.org/drawingml/2006/table">
            <a:tbl>
              <a:tblPr/>
              <a:tblGrid>
                <a:gridCol w="1797120"/>
                <a:gridCol w="1725480"/>
                <a:gridCol w="1868400"/>
                <a:gridCol w="1924200"/>
              </a:tblGrid>
              <a:tr h="198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cc00"/>
                          </a:solidFill>
                          <a:uFillTx/>
                          <a:latin typeface="Arial"/>
                        </a:rPr>
                        <a:t>Disaster Recovery Evaluation Report</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alyzes effectiveness of your existing disaster preparedness and asset protection measures.</a:t>
                      </a: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cc00"/>
                          </a:solidFill>
                          <a:uFillTx/>
                          <a:latin typeface="Arial"/>
                        </a:rPr>
                        <a:t>Alternative Processing Site Studie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entifies, documents, and evaluates potential alternate operating facilities.</a:t>
                      </a: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cc00"/>
                          </a:solidFill>
                          <a:uFillTx/>
                          <a:latin typeface="Arial"/>
                        </a:rPr>
                        <a:t>Application Impact Analysi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entifies mission critical computer applications and projects the impact of the organization if losses were to occur.</a:t>
                      </a: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cc00"/>
                          </a:solidFill>
                          <a:uFillTx/>
                          <a:latin typeface="Arial"/>
                        </a:rPr>
                        <a:t>Information Protection Analysi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termines the effectiveness of current initial records protection practices and procedures and evaluates the ability to recover essential data and inform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graphicFrame>
        <p:nvGraphicFramePr>
          <p:cNvPr id="173" name=""/>
          <p:cNvGraphicFramePr/>
          <p:nvPr/>
        </p:nvGraphicFramePr>
        <p:xfrm>
          <a:off x="0" y="4572000"/>
          <a:ext cx="7315200" cy="762120"/>
        </p:xfrm>
        <a:graphic>
          <a:graphicData uri="http://schemas.openxmlformats.org/drawingml/2006/table">
            <a:tbl>
              <a:tblPr/>
              <a:tblGrid>
                <a:gridCol w="7315200"/>
              </a:tblGrid>
              <a:tr h="762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cc00"/>
                          </a:solidFill>
                          <a:uFillTx/>
                          <a:latin typeface="Arial"/>
                        </a:rPr>
                        <a:t>Executive Management Crisis Response Plan</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volves the development of how executive management will direct and control activities during a business resumption operation.</a:t>
                      </a:r>
                      <a:endParaRPr b="0" lang="en-US" sz="1000" spc="-1" strike="noStrike">
                        <a:solidFill>
                          <a:srgbClr val="ffffff"/>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74" name=""/>
          <p:cNvSpPr/>
          <p:nvPr/>
        </p:nvSpPr>
        <p:spPr>
          <a:xfrm>
            <a:off x="76320" y="6140520"/>
            <a:ext cx="6933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About Us</a:t>
            </a:r>
            <a:endParaRPr b="0" lang="en-US" sz="1600" spc="-1" strike="noStrike">
              <a:solidFill>
                <a:srgbClr val="ffffff"/>
              </a:solidFill>
              <a:latin typeface="Arial"/>
            </a:endParaRPr>
          </a:p>
        </p:txBody>
      </p:sp>
      <p:sp>
        <p:nvSpPr>
          <p:cNvPr id="175" name=""/>
          <p:cNvSpPr/>
          <p:nvPr/>
        </p:nvSpPr>
        <p:spPr>
          <a:xfrm>
            <a:off x="152280" y="6477120"/>
            <a:ext cx="6858000" cy="2361960"/>
          </a:xfrm>
          <a:prstGeom prst="rect">
            <a:avLst/>
          </a:prstGeom>
          <a:noFill/>
          <a:ln w="0">
            <a:noFill/>
          </a:ln>
        </p:spPr>
        <p:style>
          <a:lnRef idx="0"/>
          <a:fillRef idx="0"/>
          <a:effectRef idx="0"/>
          <a:fontRef idx="minor"/>
        </p:style>
        <p:txBody>
          <a:bodyPr lIns="0" rIns="0" tIns="41040" bIns="41040" anchor="t">
            <a:normAutofit fontScale="98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MTT Associates: A Leading Business Advisor and Systems Integrator</a:t>
            </a:r>
            <a:endParaRPr b="0" lang="en-US" sz="1000" spc="-1" strike="noStrike">
              <a:solidFill>
                <a:srgbClr val="ffffff"/>
              </a:solidFill>
              <a:latin typeface="Arial"/>
            </a:endParaRPr>
          </a:p>
          <a:p>
            <a:pPr lvl="1" marL="334440">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TT Associates is a veteran owned consulting firm specializing in business system solutions.  Our vision is to be the world’s most influential technology integration leader and trusted business advisor.  Achieving it will require the highest level of commitment, performance and professionalism.  The higher we set our sights and standards, the better we serve the people we care most about.</a:t>
            </a:r>
            <a:endParaRPr b="0" lang="en-US" sz="1000" spc="-1" strike="noStrike">
              <a:solidFill>
                <a:srgbClr val="ffffff"/>
              </a:solidFill>
              <a:latin typeface="Arial"/>
            </a:endParaRPr>
          </a:p>
          <a:p>
            <a:pPr lvl="1" marL="33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or more information on our services, please contact MTT Associates at (888) 766-2318.  </a:t>
            </a:r>
            <a:endParaRPr b="0" lang="en-US" sz="1000" spc="-1" strike="noStrike">
              <a:solidFill>
                <a:srgbClr val="ffffff"/>
              </a:solidFill>
              <a:latin typeface="Arial"/>
            </a:endParaRPr>
          </a:p>
          <a:p>
            <a:pPr lvl="1" marL="33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Visit our web site: www.mtt-associates.com</a:t>
            </a:r>
            <a:endParaRPr b="0" lang="en-US" sz="1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Meeting the Needs of Our Clients</a:t>
            </a:r>
            <a:endParaRPr b="0" lang="en-US" sz="1000" spc="-1" strike="noStrike">
              <a:solidFill>
                <a:srgbClr val="ffffff"/>
              </a:solidFill>
              <a:latin typeface="Arial"/>
            </a:endParaRPr>
          </a:p>
          <a:p>
            <a:pPr lvl="1" marL="33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 the era of empowerment our first obligation is to our clients.  We care how they perform over the long term.  Their success is our success.  We treat each client’s business as or own.  At MTT Associates we strive to exceed the expectations of our clients, whom we define as partners.  We seek to help our customers develop enhancing strategies by providing business enablers through technology.  This will support more enhanced situational awareness and the creation of new competitive and cost-effective advantages to provide a gateway to tomorrow’s opportunities.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1T16:39:24Z</dcterms:created>
  <dc:creator>Frederick Smith, Jr.</dc:creator>
  <dc:description/>
  <dc:language>en-US</dc:language>
  <cp:lastModifiedBy>MIP</cp:lastModifiedBy>
  <dcterms:modified xsi:type="dcterms:W3CDTF">2007-12-05T03:23:33Z</dcterms:modified>
  <cp:revision>172</cp:revision>
  <dc:subject/>
  <dc:title>Advanced Technology, Database, Information Systems &amp; Secur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Sensitivity">
    <vt:lpwstr>Unrestricted</vt:lpwstr>
  </property>
  <property fmtid="{D5CDD505-2E9C-101B-9397-08002B2CF9AE}" pid="3" name="OCI Additional Info">
    <vt:lpwstr/>
  </property>
  <property fmtid="{D5CDD505-2E9C-101B-9397-08002B2CF9AE}" pid="4" name="OCI Restriction">
    <vt:bool>0</vt:bool>
  </property>
  <property fmtid="{D5CDD505-2E9C-101B-9397-08002B2CF9AE}" pid="5" name="SensitivityID">
    <vt:lpwstr>0</vt:lpwstr>
  </property>
  <property fmtid="{D5CDD505-2E9C-101B-9397-08002B2CF9AE}" pid="6" name="ThirdParty">
    <vt:lpwstr/>
  </property>
</Properties>
</file>