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3152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26F39-B459-4721-ADBB-945C15988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E0650-EF2B-4C51-961E-46DB31A1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7B11D-7037-4D9C-AB8E-23D7FB381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2824-FE97-4470-A62F-6E0F1A3F2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0C402-038A-47C6-B642-5569BA594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0BBD6-CC12-4093-892F-4ED02AB0D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5F770-23F1-4C13-9250-9C7A0CB94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3914E-9BC7-4DF4-9933-2F43F6E84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FCD25-4BEF-4C7E-8852-FAA00ABFF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62E9A-E25C-4725-BCD4-C49864E75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B8069-8C8A-4998-8D4B-D4BA0E507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1875-32C6-4292-86EF-6A9F617D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50003-C92E-4DD5-9498-5A287155C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00440-63DD-4DCC-B4D7-243CC2BB4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0E72-AC22-4843-9886-59B660403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5451D-29E5-4450-BB2A-EE9988038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F23F1-1DF3-43A8-9230-EAE34900C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956A-4FE8-484E-84E1-1896DFC4B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2F16-4BFD-49C3-90D6-54055FD8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AA580-9FC1-4903-8BD7-9F1702BD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2FCA5-52AC-4EEC-B9B2-A88C77372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A9A9-A388-415B-8B0C-ED1E658D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4B22C-9B12-4285-8168-63931598F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7237-C3CD-4D88-A2BC-0032A8F1F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7314840" cy="9141840"/>
            <a:chOff x="0" y="0"/>
            <a:chExt cx="7314840" cy="9141840"/>
          </a:xfrm>
        </p:grpSpPr>
        <p:sp>
          <p:nvSpPr>
            <p:cNvPr id="1"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9"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3454560"/>
              <a:ext cx="7312320" cy="3932280"/>
              <a:chOff x="0" y="3454560"/>
              <a:chExt cx="7312320" cy="3932280"/>
            </a:xfrm>
          </p:grpSpPr>
          <p:sp>
            <p:nvSpPr>
              <p:cNvPr id="38"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365040" y="2133360"/>
            <a:ext cx="6585120" cy="6040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0831-7467-419A-9777-9712D73A81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7314840" cy="9141840"/>
            <a:chOff x="0" y="0"/>
            <a:chExt cx="7314840" cy="9141840"/>
          </a:xfrm>
        </p:grpSpPr>
        <p:sp>
          <p:nvSpPr>
            <p:cNvPr id="82"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0"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3454560"/>
              <a:ext cx="7312320" cy="3932280"/>
              <a:chOff x="0" y="3454560"/>
              <a:chExt cx="7312320" cy="3932280"/>
            </a:xfrm>
          </p:grpSpPr>
          <p:sp>
            <p:nvSpPr>
              <p:cNvPr id="119"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365040" y="2133360"/>
            <a:ext cx="6585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5599-65B0-45AE-AAB7-531840D5C4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380880" y="3556080"/>
            <a:ext cx="5730840" cy="1625400"/>
          </a:xfrm>
          <a:prstGeom prst="rect">
            <a:avLst/>
          </a:prstGeom>
          <a:noFill/>
          <a:ln w="0">
            <a:noFill/>
          </a:ln>
        </p:spPr>
        <p:style>
          <a:lnRef idx="0"/>
          <a:fillRef idx="0"/>
          <a:effectRef idx="0"/>
          <a:fontRef idx="minor"/>
        </p:style>
        <p:txBody>
          <a:bodyPr lIns="90360" rIns="90360" tIns="44280" bIns="44280" anchor="t">
            <a:noAutofit/>
          </a:bodyPr>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n Six Sigma Coaching</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xcellence Assessment</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Process Optimization </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ent Metrics Improvement Tracking (eMetrics-IT)</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n Six Sigma Program/Project Management Consulting</a:t>
            </a:r>
            <a:endParaRPr b="0" lang="en-US" sz="1200" spc="-1" strike="noStrike">
              <a:solidFill>
                <a:srgbClr val="ffffff"/>
              </a:solidFill>
              <a:latin typeface="Arial"/>
            </a:endParaRPr>
          </a:p>
        </p:txBody>
      </p:sp>
      <p:sp>
        <p:nvSpPr>
          <p:cNvPr id="162" name=""/>
          <p:cNvSpPr/>
          <p:nvPr/>
        </p:nvSpPr>
        <p:spPr>
          <a:xfrm>
            <a:off x="0" y="304920"/>
            <a:ext cx="7315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ecff"/>
                </a:solidFill>
                <a:uFillTx/>
                <a:latin typeface="Arial"/>
              </a:rPr>
              <a:t>LEAN \ SIX SIGMA FOR MEASURABLE PERFORMANCE IMPROVEMENT</a:t>
            </a:r>
            <a:endParaRPr b="0" lang="en-US" sz="1600" spc="-1" strike="noStrike">
              <a:solidFill>
                <a:srgbClr val="ffffff"/>
              </a:solidFill>
              <a:latin typeface="Arial"/>
            </a:endParaRPr>
          </a:p>
        </p:txBody>
      </p:sp>
      <p:sp>
        <p:nvSpPr>
          <p:cNvPr id="163" name=""/>
          <p:cNvSpPr/>
          <p:nvPr/>
        </p:nvSpPr>
        <p:spPr>
          <a:xfrm>
            <a:off x="320760" y="3149640"/>
            <a:ext cx="551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164" name=""/>
          <p:cNvSpPr/>
          <p:nvPr/>
        </p:nvSpPr>
        <p:spPr>
          <a:xfrm>
            <a:off x="-46080" y="2101680"/>
            <a:ext cx="7010280" cy="723960"/>
          </a:xfrm>
          <a:prstGeom prst="rect">
            <a:avLst/>
          </a:prstGeom>
          <a:noFill/>
          <a:ln w="0">
            <a:noFill/>
          </a:ln>
        </p:spPr>
        <p:style>
          <a:lnRef idx="0"/>
          <a:fillRef idx="0"/>
          <a:effectRef idx="0"/>
          <a:fontRef idx="minor"/>
        </p:style>
        <p:txBody>
          <a:bodyPr lIns="237960" rIns="237960" tIns="57240" bIns="57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Lean \ Six Sigma Project Management Consulting:</a:t>
            </a:r>
            <a:r>
              <a:rPr b="0" lang="en-US" sz="1000" spc="-1" strike="noStrike">
                <a:solidFill>
                  <a:srgbClr val="ffcc00"/>
                </a:solidFill>
                <a:latin typeface="Arial"/>
              </a:rPr>
              <a:t>  </a:t>
            </a:r>
            <a:r>
              <a:rPr b="0" lang="en-US" sz="1000" spc="-1" strike="noStrike">
                <a:solidFill>
                  <a:srgbClr val="ffffff"/>
                </a:solidFill>
                <a:latin typeface="Arial"/>
              </a:rPr>
              <a:t>We provide highly qualified Black Belts to work on-site with your Lean \ Six Sigma project teams. Our Black Belts can assist you by providing technical expertise, project management services and training and coaching services in the application of Lean \ Six Sigma process and technology.  </a:t>
            </a:r>
            <a:endParaRPr b="0" lang="en-US" sz="1000" spc="-1" strike="noStrike">
              <a:solidFill>
                <a:srgbClr val="ffffff"/>
              </a:solidFill>
              <a:latin typeface="Arial"/>
            </a:endParaRPr>
          </a:p>
        </p:txBody>
      </p:sp>
      <p:sp>
        <p:nvSpPr>
          <p:cNvPr id="165" name=""/>
          <p:cNvSpPr/>
          <p:nvPr/>
        </p:nvSpPr>
        <p:spPr>
          <a:xfrm>
            <a:off x="76320" y="812880"/>
            <a:ext cx="6887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cc00"/>
                </a:solidFill>
                <a:latin typeface="Arial"/>
              </a:rPr>
              <a:t>What is Lean \ Six Sigma?</a:t>
            </a:r>
            <a:r>
              <a:rPr b="1" lang="en-US" sz="1000" spc="-1" strike="noStrike">
                <a:solidFill>
                  <a:srgbClr val="ffffff"/>
                </a:solidFill>
                <a:latin typeface="Arial"/>
              </a:rPr>
              <a:t>  </a:t>
            </a:r>
            <a:r>
              <a:rPr b="0" lang="en-US" sz="1000" spc="-1" strike="noStrike">
                <a:solidFill>
                  <a:srgbClr val="ffffff"/>
                </a:solidFill>
                <a:latin typeface="Arial"/>
              </a:rPr>
              <a:t>Lean \ Six Sigma is an approach to reduce waste and streamline operations. Lean \ Six Sigma is based on the concept of continually increasing the proportion of value added activity to a business through ongoing waste elimination. A Lean \ Six Sigma approach provides companies with the tools to survive the demand for higher quality, faster production time and lower prices in a global market. </a:t>
            </a:r>
            <a:endParaRPr b="0" lang="en-US" sz="1000" spc="-1" strike="noStrike">
              <a:solidFill>
                <a:srgbClr val="ffffff"/>
              </a:solidFill>
              <a:latin typeface="Arial"/>
            </a:endParaRPr>
          </a:p>
        </p:txBody>
      </p:sp>
      <p:pic>
        <p:nvPicPr>
          <p:cNvPr id="166" name="" descr=""/>
          <p:cNvPicPr/>
          <p:nvPr/>
        </p:nvPicPr>
        <p:blipFill>
          <a:blip r:embed="rId1"/>
          <a:stretch/>
        </p:blipFill>
        <p:spPr>
          <a:xfrm>
            <a:off x="4952880" y="3166920"/>
            <a:ext cx="2225880" cy="2243160"/>
          </a:xfrm>
          <a:prstGeom prst="rect">
            <a:avLst/>
          </a:prstGeom>
          <a:ln w="0">
            <a:noFill/>
          </a:ln>
        </p:spPr>
      </p:pic>
      <p:graphicFrame>
        <p:nvGraphicFramePr>
          <p:cNvPr id="167" name=""/>
          <p:cNvGraphicFramePr/>
          <p:nvPr/>
        </p:nvGraphicFramePr>
        <p:xfrm>
          <a:off x="3641760" y="6095880"/>
          <a:ext cx="3673440" cy="2994120"/>
        </p:xfrm>
        <a:graphic>
          <a:graphicData uri="http://schemas.openxmlformats.org/drawingml/2006/table">
            <a:tbl>
              <a:tblPr/>
              <a:tblGrid>
                <a:gridCol w="648000"/>
                <a:gridCol w="749160"/>
                <a:gridCol w="771480"/>
                <a:gridCol w="798480"/>
                <a:gridCol w="706320"/>
              </a:tblGrid>
              <a:tr h="50796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ROVE EXISTING PROCESSES, PRODUCTS, &amp; SERVICES BY ELIMINATING NON-VALUE ADDED WASTE, REDUCING CYCLE TIME &amp; COST</a:t>
                      </a:r>
                      <a:r>
                        <a:rPr b="0" lang="en-US" sz="900" spc="-1" strike="noStrike">
                          <a:solidFill>
                            <a:srgbClr val="ffffff"/>
                          </a:solidFill>
                          <a:latin typeface="Arial"/>
                        </a:rPr>
                        <a:t> </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solidFill>
                      <a:srgbClr val="ffcc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ea typeface="Times New Roman"/>
                        </a:rPr>
                        <a:t>D</a:t>
                      </a:r>
                      <a:r>
                        <a:rPr b="1" lang="en-US" sz="1000" spc="-1" strike="noStrike">
                          <a:solidFill>
                            <a:srgbClr val="ffffff"/>
                          </a:solidFill>
                          <a:latin typeface="Arial"/>
                          <a:ea typeface="Times New Roman"/>
                        </a:rPr>
                        <a:t>efine</a:t>
                      </a:r>
                      <a:endParaRPr b="0" lang="en-US" sz="10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ea typeface="Times New Roman"/>
                        </a:rPr>
                        <a:t>M</a:t>
                      </a:r>
                      <a:r>
                        <a:rPr b="1" lang="en-US" sz="1000" spc="-1" strike="noStrike">
                          <a:solidFill>
                            <a:srgbClr val="ffffff"/>
                          </a:solidFill>
                          <a:latin typeface="Arial"/>
                          <a:ea typeface="Times New Roman"/>
                        </a:rPr>
                        <a:t>easure</a:t>
                      </a:r>
                      <a:endParaRPr b="0" lang="en-US" sz="10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ea typeface="Times New Roman"/>
                        </a:rPr>
                        <a:t>A</a:t>
                      </a:r>
                      <a:r>
                        <a:rPr b="1" lang="en-US" sz="1000" spc="-1" strike="noStrike">
                          <a:solidFill>
                            <a:srgbClr val="ffffff"/>
                          </a:solidFill>
                          <a:latin typeface="Arial"/>
                          <a:ea typeface="Times New Roman"/>
                        </a:rPr>
                        <a:t>nalyze</a:t>
                      </a:r>
                      <a:endParaRPr b="0" lang="en-US" sz="10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ea typeface="Times New Roman"/>
                        </a:rPr>
                        <a:t>I</a:t>
                      </a:r>
                      <a:r>
                        <a:rPr b="1" lang="en-US" sz="1000" spc="-1" strike="noStrike">
                          <a:solidFill>
                            <a:srgbClr val="ffffff"/>
                          </a:solidFill>
                          <a:latin typeface="Arial"/>
                          <a:ea typeface="Times New Roman"/>
                        </a:rPr>
                        <a:t>mprove</a:t>
                      </a:r>
                      <a:endParaRPr b="0" lang="en-US" sz="10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ea typeface="Times New Roman"/>
                        </a:rPr>
                        <a:t>C</a:t>
                      </a:r>
                      <a:r>
                        <a:rPr b="1" lang="en-US" sz="1000" spc="-1" strike="noStrike">
                          <a:solidFill>
                            <a:srgbClr val="ffffff"/>
                          </a:solidFill>
                          <a:latin typeface="Arial"/>
                          <a:ea typeface="Times New Roman"/>
                        </a:rPr>
                        <a:t>ontrol</a:t>
                      </a:r>
                      <a:endParaRPr b="0" lang="en-US" sz="10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r>
              <a:tr h="69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dentify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rioritiz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pportunities for improvement</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Validate the problem / process</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Analyze &amp; ID Waste</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Develop ideas to remove root causes</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ommunicate</a:t>
                      </a:r>
                      <a:br>
                        <a:rPr sz="600"/>
                      </a:br>
                      <a:r>
                        <a:rPr b="0" lang="en-US" sz="600" spc="-1" strike="noStrike">
                          <a:solidFill>
                            <a:srgbClr val="ffffff"/>
                          </a:solidFill>
                          <a:latin typeface="Arial"/>
                        </a:rPr>
                        <a:t>improvements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cknowledg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ccess</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r>
              <a:tr h="73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Define project</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ocument</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urrent</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eality</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Identify "vital few" root causes of defects and opportunities for improvement</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Optimize Flow</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and</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Reduc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Friction</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rack and monitor metrics to measure performance of keeping process on new course</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r>
              <a:tr h="735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Set goal</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Measure key steps/inputs</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Identify gaps &amp; prioritize opportunities to improve</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mplement, validate</a:t>
                      </a:r>
                      <a:r>
                        <a:rPr b="0" lang="en-US" sz="600" spc="-1" strike="noStrike">
                          <a:solidFill>
                            <a:srgbClr val="ffffff"/>
                          </a:solidFill>
                          <a:latin typeface="Arial"/>
                          <a:ea typeface="Times New Roman"/>
                        </a:rPr>
                        <a:t> solution, and establish standard measures to maintain performance</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r>
                        <a:rPr b="0" lang="en-US" sz="600" spc="-1" strike="noStrike">
                          <a:solidFill>
                            <a:srgbClr val="ffffff"/>
                          </a:solidFill>
                          <a:latin typeface="Arial"/>
                          <a:ea typeface="Times New Roman"/>
                        </a:rPr>
                        <a:t>Correct problem as needed</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r>
            </a:tbl>
          </a:graphicData>
        </a:graphic>
      </p:graphicFrame>
      <p:graphicFrame>
        <p:nvGraphicFramePr>
          <p:cNvPr id="168" name=""/>
          <p:cNvGraphicFramePr/>
          <p:nvPr/>
        </p:nvGraphicFramePr>
        <p:xfrm>
          <a:off x="0" y="6095880"/>
          <a:ext cx="3520800" cy="1689120"/>
        </p:xfrm>
        <a:graphic>
          <a:graphicData uri="http://schemas.openxmlformats.org/drawingml/2006/table">
            <a:tbl>
              <a:tblPr/>
              <a:tblGrid>
                <a:gridCol w="652320"/>
                <a:gridCol w="754200"/>
                <a:gridCol w="777600"/>
                <a:gridCol w="804960"/>
                <a:gridCol w="531720"/>
              </a:tblGrid>
              <a:tr h="52704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EATE NEW SERVICE, PRODUCT OR PROCESS DESIGNS FOR PREDICTABLE, DEFECT-FREE PERFORMANCE</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solidFill>
                      <a:srgbClr val="ffcc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3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ea typeface="Times New Roman"/>
                        </a:rPr>
                        <a:t>D</a:t>
                      </a:r>
                      <a:r>
                        <a:rPr b="1" lang="en-US" sz="900" spc="-1" strike="noStrike">
                          <a:solidFill>
                            <a:srgbClr val="ffffff"/>
                          </a:solidFill>
                          <a:latin typeface="Arial"/>
                          <a:ea typeface="Times New Roman"/>
                        </a:rPr>
                        <a:t>efine</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ea typeface="Times New Roman"/>
                        </a:rPr>
                        <a:t>M</a:t>
                      </a:r>
                      <a:r>
                        <a:rPr b="1" lang="en-US" sz="900" spc="-1" strike="noStrike">
                          <a:solidFill>
                            <a:srgbClr val="ffffff"/>
                          </a:solidFill>
                          <a:latin typeface="Arial"/>
                          <a:ea typeface="Times New Roman"/>
                        </a:rPr>
                        <a:t>easure</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ea typeface="Times New Roman"/>
                        </a:rPr>
                        <a:t>A</a:t>
                      </a:r>
                      <a:r>
                        <a:rPr b="1" lang="en-US" sz="900" spc="-1" strike="noStrike">
                          <a:solidFill>
                            <a:srgbClr val="ffffff"/>
                          </a:solidFill>
                          <a:latin typeface="Arial"/>
                          <a:ea typeface="Times New Roman"/>
                        </a:rPr>
                        <a:t>nalyze</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ea typeface="Times New Roman"/>
                        </a:rPr>
                        <a:t>D</a:t>
                      </a:r>
                      <a:r>
                        <a:rPr b="1" lang="en-US" sz="900" spc="-1" strike="noStrike">
                          <a:solidFill>
                            <a:srgbClr val="ffffff"/>
                          </a:solidFill>
                          <a:latin typeface="Arial"/>
                          <a:ea typeface="Times New Roman"/>
                        </a:rPr>
                        <a:t>esign</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ea typeface="Times New Roman"/>
                        </a:rPr>
                        <a:t>V</a:t>
                      </a:r>
                      <a:r>
                        <a:rPr b="1" lang="en-US" sz="900" spc="-1" strike="noStrike">
                          <a:solidFill>
                            <a:srgbClr val="ffffff"/>
                          </a:solidFill>
                          <a:latin typeface="Arial"/>
                          <a:ea typeface="Times New Roman"/>
                        </a:rPr>
                        <a:t>erify</a:t>
                      </a:r>
                      <a:endParaRPr b="0" lang="en-US" sz="9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r>
              <a:tr h="91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efine goals and a</a:t>
                      </a:r>
                      <a:r>
                        <a:rPr b="0" lang="en-US" sz="600" spc="-1" strike="noStrike">
                          <a:solidFill>
                            <a:srgbClr val="ffffff"/>
                          </a:solidFill>
                          <a:latin typeface="Arial"/>
                          <a:ea typeface="Times New Roman"/>
                        </a:rPr>
                        <a:t>lign with customer demands and enterprise strateg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Establish critical stakeholder metrics and </a:t>
                      </a:r>
                      <a:r>
                        <a:rPr b="0" lang="en-US" sz="600" spc="-1" strike="noStrike">
                          <a:solidFill>
                            <a:srgbClr val="ffffff"/>
                          </a:solidFill>
                          <a:latin typeface="Arial"/>
                        </a:rPr>
                        <a:t>translate customer requirements into project goal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Analyze options for meeting set goals</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Develop new product, service, or process</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Verify effectiveness of design in real world</a:t>
                      </a:r>
                      <a:endParaRPr b="0" lang="en-US" sz="600" spc="-1" strike="noStrike">
                        <a:solidFill>
                          <a:srgbClr val="ffffff"/>
                        </a:solidFill>
                        <a:latin typeface="Arial"/>
                      </a:endParaRPr>
                    </a:p>
                  </a:txBody>
                  <a:tcPr anchor="t" marL="90000" marR="90000">
                    <a:lnL w="5760">
                      <a:solidFill>
                        <a:srgbClr val="808000"/>
                      </a:solidFill>
                    </a:lnL>
                    <a:lnR w="5760">
                      <a:solidFill>
                        <a:srgbClr val="808000"/>
                      </a:solidFill>
                    </a:lnR>
                    <a:lnT w="5760">
                      <a:solidFill>
                        <a:srgbClr val="808000"/>
                      </a:solidFill>
                    </a:lnT>
                    <a:lnB w="5760">
                      <a:solidFill>
                        <a:srgbClr val="808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69" name=""/>
          <p:cNvGraphicFramePr/>
          <p:nvPr/>
        </p:nvGraphicFramePr>
        <p:xfrm>
          <a:off x="0" y="533520"/>
          <a:ext cx="7315200" cy="4890960"/>
        </p:xfrm>
        <a:graphic>
          <a:graphicData uri="http://schemas.openxmlformats.org/drawingml/2006/table">
            <a:tbl>
              <a:tblPr/>
              <a:tblGrid>
                <a:gridCol w="1797120"/>
                <a:gridCol w="1725480"/>
                <a:gridCol w="1868400"/>
                <a:gridCol w="1924200"/>
              </a:tblGrid>
              <a:tr h="359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Lean Six Sigma - Coaching</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ntor, guide and counsel clients through the process of implementing Lean Six Sigma Programs at every level, from entry-level to fully deploying a  Lean Six Sigma organization for operational excellence.</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Operational Excellence Assess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aluates from a strategic perspective how and what to transform across your organizational assets, such as technology, materials and workforce to your corporate long-term objectives. From this point, a Lean Six Sigma Program Plan of action is developed which will provide a roadmap for presenting immediate value of your investment in Lean Six Sigma for operational excellen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Business Process Optimiz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partner with our clients by utilizing Lean Six Sigma processes and tools to identify what works, and what does not through a elevated evaluation of current operation and business processes from a tactical perspective. Process effectiveness is carefully scrutinized and evaluated. This information is critical in identifying focused business prospects where Lean Six Sigma events can help uncover targeted improvement opportunities within specific business operation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Event Metrics Improvement Tracking (eMetrics-I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 determine whether changes have improved performance, it is important to quantify the results. Measuring the performance of new processes in comparison to an organization’s original methodology is critical in evaluating overall effectiveness. Providing the necessary tools and techniques for ongoing tracking ensures process changes meet the Lean Six Sigma event objectives and to determine future needs of continuous improv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1294560">
                <a:tc gridSpan="4">
                  <a:txBody>
                    <a:bodyPr lIns="90000" rIns="90000" tIns="46800" bIns="46800" anchor="t">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Lean Six Sigma Program/Project Management Consulti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cross industry and cross-functional certified black belt facilitators will ensure a productive group process during our client sponsored Lean Six Sigma events.  As the black belt facilitator we will provide event mentorship, planning, budgeting, training, leadership as well as act as referee and a neutral party to make certain that the group works as a constructive and cohesive unit.  Whether federal services, pharmaceutical, financial services, professional services, healthcare, or utilities, our professionals’ cross industry and horizontal business functional background provides an accumulated 50+ years of experience that allows them to understand varying objectives across our customers.  </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0" name=""/>
          <p:cNvSpPr/>
          <p:nvPr/>
        </p:nvSpPr>
        <p:spPr>
          <a:xfrm>
            <a:off x="0" y="15228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171" name=""/>
          <p:cNvSpPr/>
          <p:nvPr/>
        </p:nvSpPr>
        <p:spPr>
          <a:xfrm>
            <a:off x="76320" y="61405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bout Us</a:t>
            </a:r>
            <a:endParaRPr b="0" lang="en-US" sz="1600" spc="-1" strike="noStrike">
              <a:solidFill>
                <a:srgbClr val="ffffff"/>
              </a:solidFill>
              <a:latin typeface="Arial"/>
            </a:endParaRPr>
          </a:p>
        </p:txBody>
      </p:sp>
      <p:sp>
        <p:nvSpPr>
          <p:cNvPr id="172" name=""/>
          <p:cNvSpPr/>
          <p:nvPr/>
        </p:nvSpPr>
        <p:spPr>
          <a:xfrm>
            <a:off x="152280" y="6477120"/>
            <a:ext cx="6858000" cy="2361960"/>
          </a:xfrm>
          <a:prstGeom prst="rect">
            <a:avLst/>
          </a:prstGeom>
          <a:noFill/>
          <a:ln w="0">
            <a:noFill/>
          </a:ln>
        </p:spPr>
        <p:style>
          <a:lnRef idx="0"/>
          <a:fillRef idx="0"/>
          <a:effectRef idx="0"/>
          <a:fontRef idx="minor"/>
        </p:style>
        <p:txBody>
          <a:bodyPr lIns="0" rIns="0" tIns="41040" bIns="4104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TT Associates: A Leading Business Advisor and Systems Integrator</a:t>
            </a:r>
            <a:endParaRPr b="0" lang="en-US" sz="1000" spc="-1" strike="noStrike">
              <a:solidFill>
                <a:srgbClr val="ffffff"/>
              </a:solidFill>
              <a:latin typeface="Arial"/>
            </a:endParaRPr>
          </a:p>
          <a:p>
            <a:pPr lvl="1" marL="334440">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is a veteran owned consulting firm specializing in business system solutions.  Our vision is to be the world’s most influential technology integration leader and trusted business advisor.  Achieving it will require the highest level of commitment, performance and professionalism.  The higher we set our sights and standards, the better we serve the people we care most about.</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more information on our services, please contact MTT Associates at (888) 766-2318.  </a:t>
            </a:r>
            <a:endParaRPr b="0" lang="en-US" sz="1000" spc="-1" strike="noStrike">
              <a:solidFill>
                <a:srgbClr val="ffffff"/>
              </a:solidFill>
              <a:latin typeface="Arial"/>
            </a:endParaRPr>
          </a:p>
          <a:p>
            <a:pPr lvl="1" marL="33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sit our web site: www.mtt-associates.com</a:t>
            </a:r>
            <a:endParaRPr b="0" lang="en-US" sz="1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eeting the Needs of Our Clients</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e era of empowerment our first obligation is to our clients.  We care how they perform over the long term.  Their success is our success.  We treat each client’s business as or own.  At MTT Associates we strive to exceed the expectations of our clients, whom we define as partners.  We seek to help our customers develop enhancing strategies by providing business enablers through technology.  This will support more enhanced situational awareness and the creation of new competitive and cost-effective advantages to provide a gateway to tomorrow’s opportunities.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6:39:24Z</dcterms:created>
  <dc:creator>Frederick Smith, Jr.</dc:creator>
  <dc:description/>
  <dc:language>en-US</dc:language>
  <cp:lastModifiedBy>MIP</cp:lastModifiedBy>
  <dcterms:modified xsi:type="dcterms:W3CDTF">2007-12-05T03:24:43Z</dcterms:modified>
  <cp:revision>164</cp:revision>
  <dc:subject/>
  <dc:title>Advanced Technology, Database, Information Systems &amp;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